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d244d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4"/>
          </p:nvPr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B6EFC7-5235-4CC5-8CFE-9D92C3DAF0E8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B23310-84F1-4916-A86B-8AF06DC5D965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D8A89C1-2F2B-4750-BDE5-040BC8DD66DF}" type="slidenum">
              <a:rPr b="1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B36BD2E-BF58-4202-AA61-ABF6F44E5BFD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D76C6B-B83F-49A2-8963-D3EB22D53000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C7DC464-5F03-4DD5-87C1-3A7BBBC530C6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BA797E-50B7-4CC3-9DB5-7DEFE5273394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25D00B4-ABFB-41B8-AEE6-D3D1A7F24EB8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34B852-7785-4B2E-B441-F78F95D2F8FD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766CED-FE91-4945-82E2-8ED54B1CF434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9FE3A6-EF05-41EA-96C3-CB57965499B9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0126FA-B213-45BB-BBB8-2C4BC7EF59D4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0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 externího přezkumu procesu RIA pro ÚV, jejichž součástí byly hloubkové rozhovory, v  r. 2013 vyplynulo, že RIA spíše nejsou v rámci legislativní praxe Parlamentu ČR využíván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bjektivní příčiny? Počty zákonů, které prochází Parlamentem ČR a počty pozměňovacích návrhů k těmto zákonům dosahují takového objemu, že při lhůtách, které mají obě komory Parlamentu stanoveny na jejich projednání, není pro většinu poslanců a senátorů ani reálné (i v případě, že by RIA rozuměli a věděli, co je její úlohou, viz subjektivní důvody) se RIA alespoň v nějaké míře zabývat (a to ani ve výborech, natož na plenárních zasedáních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 tím souvisí i připomínka některých poslanců a senátorů (sdělená v rámci hloubkového šetření), že RIA by měla mít určité stručné shrnutí dopadů vybrané varianty, které by pro poslance a senátory bylo snáze pochopitelné, než celý dlouhý a často relativně komplexní text RIA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i v jedné z komor Parlamentu ČR není specializovaný odbor, který by byl schopen poslancům a senátorům nějakým způsobem vysvětlit a poradit, jak k RIA přistupovat, popřípadě jak ji vytvořit k pozměňovacímu návrhu, který předkládají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2DB7CF-B7A6-4264-A6A1-44506F70506E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1DA84D0-5107-4C6B-A3CA-1E7276135DB3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ástroj prezentace motivace a evidence k návrhu ze strany vlády při předkládání a zdůvodnění vládních politi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láda v RIA má dávat Parlamentu informaci o tom, jakým způsobem byla RIA zpracována, pro jaké cíle vládní politiky se návrh předkládá, jaké dotčené subjekty byly konzultovány, jak jejich pohled a připomínky byly do návrhu zapracovány (respektive z jakých důvodů nebyly), odhalit zdůvodnění předpokladů a zdrojů dat pro identifikovaný problém, cíle a návrh věcných řešení, dopady, stejně jako informace o těch dopadech a hodnoceních, které z časových důvodů, absence dostupných dat, z absence jednoznačně průkazných vědeckých poznatků v dané oblasti, apod.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emohly být systematicky do zdůvodnění promítnu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vše součástí kontrolní funkce Parlamentu vůči vládě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arlament může garantovat nezávislý přístup a globální náhled na problematiku odrážející pohled dotčených subjektů, může tedy mj. vhodným korekčním prvkem  proti někdy příliš úzkému resortnímu přístupu ministerstev ve vládních návrzích politi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některých zemích je ex-post přezkum zákonů (a jejich odůvodnění) zaštítěn právě legislativním orgánem – dle zdrojů OECD např. Austrálie a Kanad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DE359D-4070-41F2-AF5C-E24190D90E6C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ípadě poslaneckých a senátorských iniciativ předkládaných opozic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by pak měla existovat podpůrná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institucionální struktura pro zpracování RI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 smyslu obdobných požadavků kladených na vládní návrhy v rámci Parlamentu Č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Hodnocení dopadů pozměňovacích návrhů k vládním návrhům zákonů, tj. dovyhodnocení dopadů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 jejich promítnutí ve smyslu očekávané změny dopadů,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y měl provádět primárně také předkladatel pozměňovacího návrhu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ale vláda by měla provést vlastní přezkum a srovnání dopadů (potřeba vytvořit procesní podmínky, především časové dané lhůtami projednávání) –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estor má znalost data a metodiky, kterou využil při zpracování, která by byla podkladem pro vyhodnocení a stanovisku ministra pro hlasování o pozměňovacích návrzích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arlament by měl systematicky zavazovat vládu k provádění a informování PČR o výsledcích ex post hodnocení účinnosti politik/zákon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v pevně stanovených lhůtách, především u dopadů, které v době přijímání návrhu jsou identifikovány v RIA jako těžko odhadnutelné a s vysokou pravděpodobností rozpětí scénářů vývoje při neznalosti výsledného chování subjektů, respektive při návrhu regulace zcela nových oblastí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1DAA5D-CB76-4A7C-82BB-9764C8B31C6F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9694AA-E0CD-4457-87F2-126A34B277DF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C8E8CC-E3CB-4639-AFE5-05F152FF4C27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0A0084-6750-42A4-AE5D-6374AAC9720F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03F922-891C-4874-8713-2FA332CF50B8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C5F4500-C968-40CC-B1A9-188F6A0700F4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93F6E1-615F-4347-8F78-C4690EC24BF5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203ED2-1248-4A50-9584-6156C1981E55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C925FA-5CFC-4ECF-8E7D-DD0908453EA5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 předpisů, u kterých již byla zpracována RIA, je možné ji využít v budoucnosti v procesu přezkum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(nastavuje systém a upřesňuje zdroje dat pro budoucí přezkum spolu s nastavením kompetencí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možňuje resortu – gestorovi předpisu nastavit kategorie a plán sběru dat, identifikovat odpovědné útvary pro jejich sběr, respektive pověřit podřízené organizace k jejich systematickému sledování (– tj. vytváří plán činnosti resortů a podřízených organizací!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A28BCF-FBBF-4C9F-B782-EBDAB83B91FE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DA0BBDF-45AE-4AA5-A2B4-40650296D829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31C4D-A9A3-460F-B290-E79FA7915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5B5D2-71D5-48BE-9779-AC92C91FF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AA5E4-1739-41B8-9015-EA24105B81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38AF3-5F8D-49CC-81C4-4819562B8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EE8F3-1206-4F1F-807F-C6E1D8443B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EB647-4474-4A93-A6F2-123DDD53C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AAAE2-08B1-4448-96A6-B79FA8B4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181A6-6870-41FD-92F0-943F30A7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21897-162D-4592-B8B7-FDA47E3F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1A767-CDF9-45FF-8295-749E6C43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B559B-0A75-4B37-B11B-341C4B25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F2B15-15C5-4BB6-B376-0DFEE4298E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7A4CD-7FB6-4F89-8F45-F4853048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2915D-02CC-4BFE-B901-774B405C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3296B-8B77-415A-91ED-E5EEB9DB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BED8A-8D01-47D9-92DF-0AD852F3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7AAA81-8B10-44AE-B4A1-0D69791E7FE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CA1C9-6633-4F1B-AF81-3D6CF9F5ED3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804F4-88FF-47DB-B7E8-ADD4C885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CB36F1-C4F8-4EC5-9BFE-9A3013CA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AEBCE-E1EC-4F5C-ABF0-64B3F572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7CFC13-A904-4785-8055-91044641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45383-FD88-4A5B-A83E-9720F5C212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7BD45-C612-4F1E-84FE-1E09FF0C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0C1D9-075E-4265-A54E-E2812B8F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69A78-2A22-498D-86A1-5E6D3222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2CB53-ED99-4FD9-9FF6-8AFE99F3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C6E0A-8958-4B13-9AA0-F88202EEC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CC9359-94B6-45CD-829A-116A43C5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2D1B8-AF64-4F00-9BB7-3630625DC8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17F96A-A15B-4292-9C0F-F37485478E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A6B79D-830E-428D-9ADE-E4471433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BEAD4-B97B-4E12-B0D5-2BE8A06B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2BB1-273C-4294-B25C-A531DF1073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5F762-6819-4070-98E7-A1093FB1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1A0B58-6F02-46FE-82F8-CB8E9EF6B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07B807-8A94-47A0-9B00-DBFA5CFD3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78BA83-71EA-40E4-A35A-E08EA5A5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D9C302-551D-4EA8-85F6-C3A58DC1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88561A-9CE4-4E09-88A4-5429B74C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80F67C-7396-49F6-A8F8-45091692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00793E-42E2-4286-A816-C5174357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CAAC0C-662C-4662-A7B8-57ABF51B56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7D070B-700C-4BD1-8B02-C72580C3B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24A7-E5CE-4B3F-9C25-30864CB2BCE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885E0A-55A3-4CB7-945D-5CB33477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7885AA-5746-4757-A8E3-11C92976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503615-1679-462A-8B56-EE361D4D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6065CC-37C3-45E7-918E-B17547E7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E5169B-9601-4564-97E6-8AFE31A4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FF6ECD-4072-4B97-865B-7E6BCEC18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09488B-F394-4A6C-AEFB-6958F34D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C885E0-A24F-455C-B32C-D48421CB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3EE9E5-67FA-4A50-88EF-5EADDF71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FCB517-50C8-422A-AADC-6B104EAE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E709D-35A8-4B1C-95F9-4192B8F9194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AB2604-5437-4D66-826F-D7C4A8E9D70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D750F-D387-4806-81F6-4B085C42C6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60A7B-0EC9-4CB7-9A76-F8E1F15A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20C21-4FD0-4E57-AE1D-53DF6D24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D5060-6686-4893-8D45-89F1F498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CF90F-0B1B-4618-BBA7-ED64B284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08E78-77C2-4577-9F4E-8E62624B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0D001-B9CD-4FCE-B1B0-536DB879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8F539-5CDF-4D49-B90F-A499364E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9FE83-0944-4430-B391-06FD7E44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4296-00EA-42D9-A724-6FE6D3C574D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0EEAC-61DB-48B7-9114-2F5A48EB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14328-E58B-44D4-99BB-A1F05749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7B044-47BB-4F9D-8C0A-6867F1FF5E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BCC78-42E5-4E8C-B3F5-BB9EA298F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E76B2-A74F-4609-A66D-72AA225B7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mailto:ria@vlada.cz" TargetMode="External"/><Relationship Id="rId4" Type="http://schemas.openxmlformats.org/officeDocument/2006/relationships/hyperlink" Target="mailto:pecka.ales@vlada.cz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d244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99640" y="6245280"/>
            <a:ext cx="7991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cs-CZ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ddělení pro koordinaci procesu RIA, Sekce Legislativní rady vlád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ttp://ria.vlada.cz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78920" y="6237360"/>
            <a:ext cx="574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cs-CZ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E6A595-0977-4A84-B95D-B39528A46C25}" type="slidenum">
              <a:rPr b="1" lang="cs-CZ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2448000" cy="288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187280" y="260280"/>
            <a:ext cx="7705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Úřad vlády ČR </a:t>
            </a:r>
            <a:br>
              <a:rPr sz="1300"/>
            </a:b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adresa: </a:t>
            </a: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nábřeží Edvarda Beneše 4, 118 01  Praha 1</a:t>
            </a:r>
            <a:br>
              <a:rPr sz="1300"/>
            </a:b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Tel: +420 224 002 578, e-mail: </a:t>
            </a:r>
            <a:r>
              <a:rPr b="1" lang="cs-CZ" sz="13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ia@vlada.cz</a:t>
            </a: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3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ecka.ales@vlada.cz</a:t>
            </a: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1052640"/>
            <a:ext cx="8713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79280" y="6093000"/>
            <a:ext cx="8713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77F63-848B-4224-BD85-B7878A0F2FA4}" type="datetime">
              <a:rPr b="1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7.20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D985D-9497-4A4B-BFC1-53FB66A43A46}" type="slidenum">
              <a:rPr b="1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86" name=""/>
            <p:cNvSpPr/>
            <p:nvPr/>
          </p:nvSpPr>
          <p:spPr>
            <a:xfrm>
              <a:off x="8305920" y="1440"/>
              <a:ext cx="836640" cy="6855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320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81280" y="0"/>
              <a:ext cx="37944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33720" y="0"/>
              <a:ext cx="6080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0"/>
              <a:ext cx="9126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2900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1972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81080" y="0"/>
              <a:ext cx="2271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8720" y="0"/>
              <a:ext cx="39852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91520" y="0"/>
              <a:ext cx="2268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15200" y="0"/>
              <a:ext cx="10652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2720" y="0"/>
              <a:ext cx="9889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588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3432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54480" y="0"/>
              <a:ext cx="2397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55880" y="0"/>
              <a:ext cx="5320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0" y="6151680"/>
              <a:ext cx="9142560" cy="70488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138720"/>
              <a:ext cx="9158400" cy="2746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0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27749-583D-45E9-898F-463B44D143E3}" type="slidenum">
              <a:rPr b="1" lang="cs-CZ" sz="1000" spc="-1" strike="noStrike">
                <a:solidFill>
                  <a:srgbClr val="000000"/>
                </a:solidFill>
                <a:latin typeface="Tahoma"/>
                <a:ea typeface="Segoe UI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0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B732E8-7A5F-4930-956E-664873F1D7A8}" type="datetime">
              <a:rPr b="1" lang="cs-CZ" sz="1000" spc="-1" strike="noStrike">
                <a:solidFill>
                  <a:srgbClr val="000000"/>
                </a:solidFill>
                <a:latin typeface="Tahoma"/>
                <a:ea typeface="Segoe UI"/>
              </a:rPr>
              <a:t>28.07.20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86F91-F8AF-4B29-822C-8A4638DDB762}" type="slidenum">
              <a:rPr b="1" lang="cs-CZ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151" name=""/>
            <p:cNvSpPr/>
            <p:nvPr/>
          </p:nvSpPr>
          <p:spPr>
            <a:xfrm>
              <a:off x="0" y="0"/>
              <a:ext cx="284040" cy="5317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2920" y="135000"/>
              <a:ext cx="8729640" cy="2728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9680" y="135000"/>
              <a:ext cx="136440" cy="139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7560" y="0"/>
              <a:ext cx="13824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7560" y="135000"/>
              <a:ext cx="138240" cy="139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4680" y="274680"/>
              <a:ext cx="1350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1760" y="136440"/>
              <a:ext cx="139680" cy="136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680" y="2714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4680" y="40968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973A0-79BC-4992-A6C2-DB077E306554}" type="datetime">
              <a:rPr b="1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7.20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200" name=""/>
            <p:cNvSpPr/>
            <p:nvPr/>
          </p:nvSpPr>
          <p:spPr>
            <a:xfrm>
              <a:off x="8305920" y="1440"/>
              <a:ext cx="836640" cy="6855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7652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280" y="0"/>
              <a:ext cx="37944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33720" y="0"/>
              <a:ext cx="6080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2120" y="0"/>
              <a:ext cx="9126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720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2900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1972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81080" y="0"/>
              <a:ext cx="2271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38720" y="0"/>
              <a:ext cx="39852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91520" y="0"/>
              <a:ext cx="2268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5200" y="0"/>
              <a:ext cx="10652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62720" y="0"/>
              <a:ext cx="9889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588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3432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4480" y="0"/>
              <a:ext cx="2397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55880" y="0"/>
              <a:ext cx="5320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0" y="6151680"/>
              <a:ext cx="9142560" cy="70488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6138720"/>
              <a:ext cx="9158400" cy="2746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9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0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2DD6C-C5AB-42FD-89E9-C97FB87624D4}" type="datetime">
              <a:rPr b="1" lang="cs-CZ" sz="1000" spc="-1" strike="noStrike">
                <a:solidFill>
                  <a:srgbClr val="000000"/>
                </a:solidFill>
                <a:latin typeface="Tahoma"/>
                <a:ea typeface="Segoe UI"/>
              </a:rPr>
              <a:t>28.07.20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0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F5C5FB-648F-4517-8401-A2D447B8BEFA}" type="slidenum">
              <a:rPr b="1" lang="cs-CZ" sz="1000" spc="-1" strike="noStrike">
                <a:solidFill>
                  <a:srgbClr val="000000"/>
                </a:solidFill>
                <a:latin typeface="Tahoma"/>
                <a:ea typeface="Segoe UI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63" name=""/>
            <p:cNvSpPr/>
            <p:nvPr/>
          </p:nvSpPr>
          <p:spPr>
            <a:xfrm>
              <a:off x="0" y="0"/>
              <a:ext cx="3503520" cy="685656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16120" y="1690560"/>
              <a:ext cx="7426440" cy="2532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266" name=""/>
              <p:cNvSpPr/>
              <p:nvPr/>
            </p:nvSpPr>
            <p:spPr>
              <a:xfrm>
                <a:off x="573120" y="3583080"/>
                <a:ext cx="57456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716120" y="1690560"/>
                <a:ext cx="573120" cy="641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81320" y="106668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41560" y="3583080"/>
                <a:ext cx="582480" cy="639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81320" y="1690560"/>
                <a:ext cx="58428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41560" y="232416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2324160"/>
                <a:ext cx="581040" cy="631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16120" y="2324160"/>
                <a:ext cx="57312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73120" y="29480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41560" y="2948040"/>
                <a:ext cx="5824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23700-EF5B-492C-BAE1-7406626989E9}" type="datetime">
              <a:rPr b="1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7.20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9C71F2-9393-4999-AF9C-AFEFBC19AF91}" type="slidenum">
              <a:rPr b="1" lang="cs-CZ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pecka.ales@vlada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11280" y="1844640"/>
            <a:ext cx="79182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cs-CZ" sz="3200" spc="-1" strike="noStrike">
                <a:solidFill>
                  <a:srgbClr val="0d244d"/>
                </a:solidFill>
                <a:latin typeface="Arial"/>
                <a:ea typeface="Microsoft YaHei"/>
              </a:rPr>
              <a:t>Proces RIA a jeho využití v legislativním procesu </a:t>
            </a:r>
            <a:br>
              <a:rPr sz="3200"/>
            </a:br>
            <a:br>
              <a:rPr sz="2000"/>
            </a:br>
            <a:r>
              <a:rPr b="1" i="1" lang="cs-CZ" sz="2400" spc="-1" strike="noStrike">
                <a:solidFill>
                  <a:srgbClr val="0d244d"/>
                </a:solidFill>
                <a:latin typeface="Arial"/>
                <a:ea typeface="Microsoft YaHei"/>
              </a:rPr>
              <a:t>Aleš Pecka</a:t>
            </a:r>
            <a:br>
              <a:rPr sz="2400"/>
            </a:br>
            <a:r>
              <a:rPr b="1" i="1" lang="cs-CZ" sz="2400" spc="-1" strike="noStrike">
                <a:solidFill>
                  <a:srgbClr val="0d244d"/>
                </a:solidFill>
                <a:latin typeface="Arial"/>
                <a:ea typeface="Microsoft YaHei"/>
              </a:rPr>
              <a:t>Úřad vlády ČR</a:t>
            </a:r>
            <a:br>
              <a:rPr sz="2400"/>
            </a:br>
            <a:br>
              <a:rPr sz="2400"/>
            </a:br>
            <a:r>
              <a:rPr b="1" i="1" lang="cs-CZ" sz="1600" spc="-1" strike="noStrike">
                <a:solidFill>
                  <a:srgbClr val="0d244d"/>
                </a:solidFill>
                <a:latin typeface="Arial"/>
                <a:ea typeface="Microsoft YaHei"/>
              </a:rPr>
              <a:t>21. dubna 2015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0d244d"/>
                </a:solidFill>
                <a:latin typeface="Arial"/>
                <a:ea typeface="Microsoft YaHei"/>
              </a:rPr>
              <a:t>v rámci semináře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0d244d"/>
                </a:solidFill>
                <a:latin typeface="Arial"/>
                <a:ea typeface="Microsoft YaHei"/>
              </a:rPr>
              <a:t>„Nabídka na spolupráci při odborném posouzení dopadů regulace (RIA) </a:t>
            </a:r>
            <a:br>
              <a:rPr sz="1600"/>
            </a:br>
            <a:r>
              <a:rPr b="1" lang="cs-CZ" sz="1600" spc="-1" strike="noStrike">
                <a:solidFill>
                  <a:srgbClr val="0d244d"/>
                </a:solidFill>
                <a:latin typeface="Arial"/>
                <a:ea typeface="Microsoft YaHei"/>
              </a:rPr>
              <a:t>pro obě komory Parlamentu České republiky“</a:t>
            </a:r>
            <a:br>
              <a:rPr sz="1600"/>
            </a:br>
            <a:r>
              <a:rPr b="1" lang="cs-CZ" sz="1600" spc="-1" strike="noStrike">
                <a:solidFill>
                  <a:srgbClr val="0d244d"/>
                </a:solidFill>
                <a:latin typeface="Arial"/>
                <a:ea typeface="Microsoft YaHei"/>
              </a:rPr>
              <a:t>Ústavně právní výbor PS PČR</a:t>
            </a:r>
            <a:br>
              <a:rPr sz="1600"/>
            </a:b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Microsoft YaHei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Co je výstupem procesu RIA na úrovni vlády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9280" y="198900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Závěrečná zpráva RI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Shrnuje výsledky provedené R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Je stanovena šablona pro závěrečnou zprávu RIA včetně Shrnutí pro návrhy zákonů (aktualizace od 1.2.2014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V případě řešení více problémů je předkladatel oprávněn přiměřeně upravit strukturu provedené R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Závěrečná zpráva RIA musí být v souladu s návrhem právního předpisu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V případě, že dojde před předložením návrhu právního předpisu vládě ke změnám, které mají věcné dopady, je nutné dopracovat v tomto ohledu RIA včetně závěrečné zprávy před jednáním vlád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V případě, kdy dojde ke změnám v návrhu právního předpisu na jednání vlády, závěrečná zpráva se již nedopracovává, tato skutečnost se uvede pouze v důvodové právě, která je předkládána do Parlamentu Č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Proces RIA na úrovni vlády v r. 201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Na úrovni vlády předloženo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185 návrhů právních předpisů (VZZ, návrhy zákonů a návrhy nařízení)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– z toho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110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se zpracovanou 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Z toho návrhy zákonů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119 na úrovni vlády (117+2 NÚZ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V rámci poslaneckých a senátních iniciativ předloženo v Parlamentu ČR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70 návrhů zákon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Celkově tedy předloženo 189 návrhů zákonů včetně novel existujících předpis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Na úrovni vlády předloženo dále 220 návrhů podzákonných předpisů (61 nařízení vlády a 159 návrhů vyhláše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Počty návrhů právních předpisů v ČR v r. 201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79280" y="2060640"/>
          <a:ext cx="8715240" cy="3817440"/>
        </p:xfrm>
        <a:graphic>
          <a:graphicData uri="http://schemas.openxmlformats.org/drawingml/2006/table">
            <a:tbl>
              <a:tblPr/>
              <a:tblGrid>
                <a:gridCol w="5832000"/>
                <a:gridCol w="2883240"/>
              </a:tblGrid>
              <a:tr h="34128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i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</a:tr>
              <a:tr h="37764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y zákonů předložených na půdě Parlamentu ČR (bez RIA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a1c7"/>
                    </a:solidFill>
                  </a:tcPr>
                </a:tc>
              </a:tr>
              <a:tr h="48312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y primárních (zákonných) právních předpisů na úrovni vlády (návrhy zákonů - NZ 117 a návrhy ústavních zákonů - NÚZ 2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a1c7"/>
                    </a:solidFill>
                  </a:tcPr>
                </a:tc>
              </a:tr>
              <a:tr h="27144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y zákonů předložených v ČR v r. 2014 celkem (119+70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</a:tr>
              <a:tr h="37800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ádní návrhy právních předpisů za rok 2014 celkem (NZ 117, NÚZ 2, VZZ 5, NNV 6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</a:tr>
              <a:tr h="27180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ádní návrhy právních předpisů bez zpracované RIA (NZ, N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</a:tr>
              <a:tr h="37764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ádní návrhy právních předpisů (NZ, VZZ, NV) se zpracovanou RI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</a:tr>
              <a:tr h="27324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z toho Věcné záměry zákonů (VZZ) – RIA povinná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</a:tr>
              <a:tr h="27180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toho vládní návrhy posuzované Komisí RIA v r. 201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y podzákonných právních předpisů na úrovni vlád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 toho návrhy nařízení vlády (N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y vyhláše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Proč institucionální přezkum kvality RIA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Garance kvality metodiky a vnitřní koherence evidence zpracované v RIA resorty při předkládání návrhu rozhodnutí vlád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V rámci Legislativní rady vlády vykonává specializovaná </a:t>
            </a: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Komise 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Ustavena v listopadu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0DDCC5-0EB5-4FAC-97D7-C681869A5A83}" type="slidenum">
              <a:rPr b="1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5280" y="189000"/>
            <a:ext cx="8437680" cy="61992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780000" y="1413000"/>
            <a:ext cx="1895400" cy="993600"/>
          </a:xfrm>
          <a:prstGeom prst="wedgeRectCallout">
            <a:avLst>
              <a:gd name="adj1" fmla="val 18675"/>
              <a:gd name="adj2" fmla="val -110703"/>
            </a:avLst>
          </a:prstGeom>
          <a:noFill/>
          <a:ln cap="sq"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5f497a"/>
                </a:solidFill>
                <a:latin typeface="Calibri"/>
                <a:ea typeface="MS PGothic"/>
              </a:rPr>
              <a:t>Komise RIA navrhuje, u kterých legislativních návrhů má být provedeno hodnocení dopadů regulace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80000" y="2565360"/>
            <a:ext cx="1895400" cy="1295280"/>
          </a:xfrm>
          <a:prstGeom prst="wedgeRectCallout">
            <a:avLst>
              <a:gd name="adj1" fmla="val 105944"/>
              <a:gd name="adj2" fmla="val -3064"/>
            </a:avLst>
          </a:prstGeom>
          <a:noFill/>
          <a:ln cap="sq"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5f497a"/>
                </a:solidFill>
                <a:latin typeface="Calibri"/>
                <a:ea typeface="MS PGothic"/>
              </a:rPr>
              <a:t>Komise poskytuje konzultace zpracovatelům RIA k metodickým otázkám ve spolupráci s oddělením koordinace procesu RIA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80000" y="4076640"/>
            <a:ext cx="1944360" cy="1008000"/>
          </a:xfrm>
          <a:prstGeom prst="wedgeRectCallout">
            <a:avLst>
              <a:gd name="adj1" fmla="val 16694"/>
              <a:gd name="adj2" fmla="val 104958"/>
            </a:avLst>
          </a:prstGeom>
          <a:noFill/>
          <a:ln cap="sq"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5f497a"/>
                </a:solidFill>
                <a:latin typeface="Calibri"/>
                <a:ea typeface="MS PGothic"/>
              </a:rPr>
              <a:t>Komise přezkoumává kvalitu RIA po věcné stránce; pokud předložená Závěrečná zpráva RIA není akceptovatelná, je vyžadováno její dopracování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Činnost Komise RIA v r. 2014 v číslec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Microsoft YaHei"/>
              </a:rPr>
              <a:t>Na úrovni vlády předloženo v r. 2014 185 návrhů předpisů – z toho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Microsoft YaHei"/>
              </a:rPr>
              <a:t>110 se zpracovanou 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Komise RIA projednala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65 závěrečných zpráv RIA k návrhům zákonů, věcných záměrů zákonů a návrhům nařízení vlá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u 24 návrhů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(37% ze všech stanovisek) vydala napoprvé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kladné stanovisk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u zbývajících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41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(63%) vydala stanovisko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s žádostí o dopracování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(s různou mírou závažnost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pouze u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8 návrhů nedoporučila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Komise po projednání či dopracování schválení závěrečné zprávy 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dělení pro koordinaci procesu RIA, Sekce Legislativní rady vlá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960DA72-00B9-4346-996A-6734FA94F64D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58920" y="1197000"/>
          <a:ext cx="6322680" cy="4758840"/>
        </p:xfrm>
        <a:graphic>
          <a:graphicData uri="http://schemas.openxmlformats.org/drawingml/2006/table">
            <a:tbl>
              <a:tblPr/>
              <a:tblGrid>
                <a:gridCol w="939600"/>
                <a:gridCol w="938880"/>
                <a:gridCol w="955800"/>
                <a:gridCol w="871560"/>
                <a:gridCol w="873720"/>
                <a:gridCol w="871560"/>
                <a:gridCol w="871560"/>
              </a:tblGrid>
              <a:tr h="512640">
                <a:tc rowSpan="2"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kladate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 rowSpan="2"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ty návrhů předložených s RIA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 rowSpan="2"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toho projednaných v Komisi RIA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 rowSpan="2"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negativním stanoviskem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 gridSpan="3"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kladným stanoviskem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připomíne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dopracování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přepracování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404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L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54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SV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p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ŠM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Z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404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Z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ZV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ŽP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- ÚOHS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V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- SÚJB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e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Graficky podíl výsledných stanovisek Komise RIA v r. 201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dělení pro koordinaci procesu RIA, Sekce Legislativní rady vlá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C694A4-2D8E-426F-89FD-AA389D8EB5D5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59054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Srovnání výsledných stanovisek za roky 2012, 2013 a 201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dělení pro koordinaci procesu RIA, Sekce Legislativní rady vlá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62007BF-C561-4102-8617-1B920B99D665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576440" y="2060640"/>
            <a:ext cx="59198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d244d"/>
                </a:solidFill>
                <a:latin typeface="Arial"/>
                <a:ea typeface="Microsoft YaHei"/>
              </a:rPr>
              <a:t>Proces RIA v legislativním procesu: jaké máme dosavadní poznatky o využití RIA v PČR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Z externího přezkumu procesu RIA pro ÚV r. 2013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vyplynulo, že v rámci legislativní praxe Parlamentu závěrečné zprávy RIA spíše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nejsou využívány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Příčiny? Vyplývá někdy jednak z faktické neznalosti zákonodárců, ale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dáno také počty zákonů a počty pozměňovacích návrhů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k těmto zákonům, které prochází Parlamentem Č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V daných lhůtách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, které mají obě komory Parlamentu pro projednání není pro většinu poslanců a senátorů ani reálné se RIA alespoň v nějaké míře zabývat (a to ani ve výborech, natož na plenárních zasedáních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Mj. proto bylo ze strany RIA poslanců a senátorů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voláno po stručném shrnutí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dopadů vybrané varianty, které by pro poslance a senátory bylo snáze pochopitelné, než celý dlouhý a často relativně komplexní text RIA.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Ani v jedné z komor Parlamentu ČR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není dále specializovaný odbor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, který by byl schopen poslancům a senátorům nějakým způsobem vysvětlit a poradit, jak k RIA přistupovat, popřípadě jak ji vytvořit k pozměňovacímu návrhu, který předkládají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Obsah přednášk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Arial"/>
              <a:buAutoNum type="romanUcPeriod"/>
              <a:tabLst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Co je to RI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Arial"/>
              <a:buAutoNum type="romanUcPeriod"/>
              <a:tabLst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Institucionální zakotvení procesu RIA na úrovni vlá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Arial"/>
              <a:buAutoNum type="romanUcPeriod"/>
              <a:tabLst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Proces RIA na úrovni vlády v čísle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Arial"/>
              <a:buAutoNum type="romanUcPeriod"/>
              <a:tabLst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Důvody pro posílení procesu RIA v PČ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Arial"/>
              <a:buAutoNum type="romanUcPeriod"/>
              <a:tabLst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Zlepšení procesu RIA v PČR: možnost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Unit for Coordination of RIA Process, Government Legislative Council Secti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B03240-3AED-44F6-A551-6E02E78B0CE0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RIA a využití ze strany PČR – důvody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0920" y="191628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Nástroj prezentace motivace a evidence 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k návrhu předpisů ze strany vlády při předkládání a zdůvodnění vládních politi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Může být nahlíženo jako součást 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kontrolní funkce parlamentu vůči vládě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Vláda v RIA má parlament informovat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, jakým způsobem byla RIA zpracována, pro jaké cíle vládní politiky se návrh předkládá, jaké dotčené subjekty byly konzultovány, jak jejich pohled a připomínky byly do návrhu zapracovány (respektive z jakých důvodů nebyly), stejně jako informace o těch dopadech a hodnoceních, které z časových důvodů, absence dostupných dat, z absence jednoznačně průkazných vědeckých poznatků v dané oblasti, apod. 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nemohly být systematicky do zdůvodnění promítnu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Parlament může garantovat nezávislý přístup a globální náhled na problematiku odrážející mj. pohled dotčených subjektů a může být korigujícím prvkem  proti někdy příliš úzkému resortnímu přístupu ministerstev ve vládních návrzích politik a regula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V některých zemích je ex-post přezkum zákonů (a jejich odůvodnění) zaštítěn právě legislativním orgánem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Jak zlepšit proces RIA a jeho podporu v PČ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9280" y="1773360"/>
            <a:ext cx="87138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V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případě poslaneckých a senátorských iniciativ předkládaných opozicí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 by pak měla existovat podpůrná 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institucionální struktura pro zpracování RIA 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ve smyslu obdobných požadavků kladených na vládní návrhy v rámci Parlamentu Č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Hodnocení dopadů pozměňovacích návrhů k vládním návrhům zákonů, tj. dovyhodnocení dopadů 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a jejich promítnutí ve smyslu očekávané změny dopadů, 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by měl provádět primárně také předkladatel pozměňovacího návrhu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, ale vláda by měla provést vlastní přezkum a srovnání dopadů (potřeba vytvořit procesní podmínky, především časové dané lhůtami projednávání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Parlament by měl systematicky zavazovat vládu k provádění a informování PČR o výsledcích ex post hodnocení účinnosti politik/zákonů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 v pevně stanovených lhůtách, především u dopadů, které v době přijímání návrhu jsou identifikovány v RIA jako těžko odhadnutelné a s vysokou pravděpodobností rozpětí scénářů vývoje při neznalosti výsledného chování subjektů, respektive při návrhu regulace zcela nových oblastí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Výhled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Možná metodická pomoc ze strany útvarů Sekce LRV ÚV pro nastavení procesů RIA v PČ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Zprostředkování zahraniční zkušenosti z členských zemí OECD i aktuálních debat nad problematikou provádění hodnocení dopadů i na úrovni EU mezi Evropskou komisí, Radou EU a Evropským parlamen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Otázky do diskuse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"/>
              </a:rPr>
              <a:t>Jak zlepšit strukturu a prezentaci závěrečných zpráv RIA v rámci důvodových zpráv, aby byly aktivně využívány v Parlamentu jako součást přezkumu návrhu a jeho zdůvodnění ze strany zákonodárců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"/>
              </a:rPr>
              <a:t>Jaké jsou procesní možnosti, aby důvodová zpráva z hlediska hodnocení dopadů měla svou vypovídací hodnotu i pro projednávání a formulaci pozměňovacích návrhů a odrážela znalost dopadů pozměňovacích návrhů před finálním schvalování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4360" y="1413000"/>
            <a:ext cx="77724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d244d"/>
                </a:solidFill>
                <a:latin typeface="Arial"/>
                <a:ea typeface="Microsoft YaHei"/>
              </a:rPr>
              <a:t>Děkuji za pozornos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5640" y="3284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Aleš Peck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pov. vedoucí oddělení pro koordinaci procesu RIA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odbor hodnocení dopadů regulace, Úřad vlád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e-mail: </a:t>
            </a:r>
            <a:r>
              <a:rPr b="1" lang="cs-CZ" sz="20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"/>
              </a:rPr>
              <a:t>pecka.ales@vlada.c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Tel: +420 224 002 57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Unit for Coordination of RIA Process, Government Legislative Council Secti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79834B-90B9-4A9C-A0B9-A49BB0201929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Co je to RIA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Dle oficiální definice je </a:t>
            </a: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hodnocení dopadů regulace (dále jen „RIA“ z angl. Regulatory Impact Assessment) </a:t>
            </a: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soustavou analytických metod směřujících k systematickému hodnocení očekávaných dopadů navrhovaných politik a právních předpisů, kterými jsou implementován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Co to znamená, k čemu může být RIA využita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91628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Nástroj pro zdůvodnění návrhů politik na základě podložené evidence a zdůvodnění – posílení transparentnosti rozhodování a zkvalitnění leg. postup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Nástroj pro identifikaci zastaralé legislativy (viz ex post RI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Nástroj pro prevenci zbytečné regulace a pojistka proti „legislativní inflaci“ (viz ex ante RI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Tvorba politik opřená o konzultace dotčených subjekt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Identifikace preferencí a variant řešení ze strany dotčených subjekt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Podpůrné argumenty pro předkladatele a identifikace potenciálních kritických výhrad ze strany dotčených subjekt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Analýza nákladů a přínosů navrhovaných variant řešení – prezentace úvah a zvoleného řešení pro členy Parlament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dělení pro koordinaci procesu RIA, Sekce Legislativní rady vlá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42E428-1DC7-4DCB-883B-0FAFA0950875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RIA v rozhodovacím procesu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Jedná se o systematický přístup za účelem kritického vyhodnocení pozitivních a negativních účinků navržených regulací a nelegislativních opatření i v kontextu dopadů na stávající regula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Hovoříme také o </a:t>
            </a: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regulatorním cyk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Jeho součástí je hodnocení nových politik (ex ante RIA) i stávajících politik a regulace (ex post RIA) – viz následující sché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69920A-4844-4F9C-8970-5266735A813C}" type="slidenum">
              <a:rPr b="1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>
            <a:lum contrast="18000"/>
            <a:alphaModFix amt="7000"/>
          </a:blip>
          <a:stretch/>
        </p:blipFill>
        <p:spPr>
          <a:xfrm>
            <a:off x="324000" y="260280"/>
            <a:ext cx="8437320" cy="619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116000" y="4005360"/>
            <a:ext cx="1944720" cy="934920"/>
          </a:xfrm>
          <a:prstGeom prst="flowChartProcess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258920" y="260280"/>
            <a:ext cx="2592360" cy="2592360"/>
          </a:xfrm>
          <a:prstGeom prst="flowChartProcess">
            <a:avLst/>
          </a:prstGeom>
          <a:solidFill>
            <a:srgbClr val="800080">
              <a:alpha val="3000"/>
            </a:srgbClr>
          </a:solidFill>
          <a:ln cap="sq"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800080"/>
                </a:solidFill>
                <a:latin typeface="Arial"/>
                <a:ea typeface="Arial"/>
              </a:rPr>
              <a:t>Ex post RI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24360" y="1628640"/>
            <a:ext cx="4248000" cy="5040360"/>
          </a:xfrm>
          <a:prstGeom prst="flowChartProcess">
            <a:avLst/>
          </a:prstGeom>
          <a:noFill/>
          <a:ln cap="sq"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  <a:ea typeface="Arial"/>
              </a:rPr>
              <a:t>Ex ante RI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3590280" y="138816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800080">
              <a:alpha val="42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2833560" y="3077640"/>
            <a:ext cx="1390680" cy="1082880"/>
          </a:xfrm>
          <a:custGeom>
            <a:avLst/>
            <a:gdLst>
              <a:gd name="textAreaLeft" fmla="*/ 800280 w 1390680"/>
              <a:gd name="textAreaRight" fmla="*/ 1173600 w 1390680"/>
              <a:gd name="textAreaTop" fmla="*/ 145800 h 1082880"/>
              <a:gd name="textAreaBottom" fmla="*/ 463680 h 1082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>
              <a:alpha val="42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11280" y="2924280"/>
            <a:ext cx="648000" cy="108108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ff0000">
              <a:alpha val="33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ff3300"/>
                </a:solidFill>
                <a:latin typeface="Arial"/>
                <a:ea typeface="Arial"/>
              </a:rPr>
              <a:t>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23720" y="1197000"/>
            <a:ext cx="8713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Přezkum účinnosti právních předpisů – Proč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9280" y="191628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 u="sng">
                <a:solidFill>
                  <a:srgbClr val="0d244d"/>
                </a:solidFill>
                <a:uFillTx/>
                <a:latin typeface="Arial"/>
                <a:ea typeface="Arial Unicode MS"/>
              </a:rPr>
              <a:t>Proč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 Unicode MS"/>
              </a:rPr>
              <a:t>V současnosti chybí systematický sběr podkladů ze strany vlády pro vyhodnocování relevantnosti a kvality právních předpisů (v prax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 u="sng">
                <a:solidFill>
                  <a:srgbClr val="0d244d"/>
                </a:solidFill>
                <a:uFillTx/>
                <a:latin typeface="Arial"/>
                <a:ea typeface="Arial Unicode MS"/>
              </a:rPr>
              <a:t>Jak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 Unicode MS"/>
              </a:rPr>
              <a:t>ex-ante RIA: využití v procesu ex-post evaluace právní regulace, požadavky již dnes součástí metodiky Obecných zásad 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 Unicode MS"/>
              </a:rPr>
              <a:t>indikátory: nastaveny předkladatelem, tj. vládou, na jím definované cíle návrhu právního předpisu (v ex ante RIA) – jsou podkladem pro systematické provedení přezkumu, způsobu implementace a případné korekce zjištěných dopadů dle skutečnosti v prax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 Unicode MS"/>
              </a:rPr>
              <a:t>následný ex-post přezkum tedy může odhalit nedostatky v nastavení vládní politiky a přinést podklady pro vhodný návrh a odůvodnění její korek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 Unicode MS"/>
              </a:rPr>
              <a:t>v ex post RIA musí ale být promítnut dopad pozměňovacích návrhů přijatých v Parlamentu ČR (!) – fakticky totiž mění původní dopady předpokládané vládou ve vládních návrzí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dělení pro koordinaci procesu RIA, Sekce Legislativní rady vlá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1BCB13-7E9F-4A08-8245-27176BEB3A14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d244d"/>
                </a:solidFill>
                <a:latin typeface="Arial"/>
                <a:ea typeface="Microsoft YaHei"/>
              </a:rPr>
              <a:t>Přezkum právních předpisů: Využití RI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9280" y="191628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55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U předpisů, u kterých již byla zpracována RI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55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RIA nastavuje matici hodnot a indikátorů, které lze pro vyhodnocení účinnosti sledova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55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Umožňuje resortu – gestorovi předpisu nastavit kategorie a plán sběru dat, identifikovat odpovědné útvary pro jejich sběr, respektive pověřit podřízené organizace systematickým sledování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55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Předpokladem jsou ale pečlivě nastavené ukazatele („viz indikátory“) v ex-ante RIA a </a:t>
            </a: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jejich případná aktualizace v případě přijetí zásadních pozměňovacích návrhů v průběhu legislativního procesu a na jeho konci </a:t>
            </a: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– (Parlamen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55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Jedním z měřítek hodnocení kvality zpracované RIA z hlediska využitelnosti pro budoucí přezkum pro návrhy </a:t>
            </a: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předkládané k rozhodnutí vlády</a:t>
            </a: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 </a:t>
            </a: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je posouzení ze strany Komise RI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d244d"/>
                </a:solidFill>
                <a:latin typeface="Arial"/>
                <a:ea typeface="Microsoft YaHei"/>
              </a:rPr>
              <a:t>Institucionální zabezpečení RIA na úrovni vlád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191628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Ústřední správní úřad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Odpovědnost za provádění RIA a kvalitu zpracování závěrečné zprávy RI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2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Pracovní komise Legislativní rady vlády pro hodnocení dopadů regula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Posuzování kvality provedených RI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Provádění konzultací k RIA v průběhu jejího zpracování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Na základě přehledu dopadů doporučuje zpracování nebo nezpracování RIA do Plánu legislativních prací vlád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Úřad vlád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Poskytuje metodickou pomoc při provádění RIA a koordinaci celého procesu RI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Zpracovává věcné podklady pro pracovní komisi pro hodnocení dopadů regula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2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7:19:07Z</dcterms:created>
  <dc:creator>moje</dc:creator>
  <dc:description/>
  <dc:language>en-US</dc:language>
  <cp:lastModifiedBy>Pecka Aleš</cp:lastModifiedBy>
  <cp:lastPrinted>2015-02-27T11:52:07Z</cp:lastPrinted>
  <dcterms:modified xsi:type="dcterms:W3CDTF">2015-04-20T13:18:48Z</dcterms:modified>
  <cp:revision>330</cp:revision>
  <dc:subject/>
  <dc:title>Intranet Úřadu vlády  České republiky</dc:title>
</cp:coreProperties>
</file>