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dt" idx="13"/>
          </p:nvPr>
        </p:nvSpPr>
        <p:spPr>
          <a:xfrm>
            <a:off x="3851280" y="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d244d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 type="sldNum" idx="14"/>
          </p:nvPr>
        </p:nvSpPr>
        <p:spPr>
          <a:xfrm>
            <a:off x="3851280" y="9428040"/>
            <a:ext cx="294336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65FD1C1-A7EA-45BD-AC6C-11E3EAE8E5B6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804A891-D617-48C6-A73B-970B7C0EB48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EAA9FB8-D3C8-403C-A188-54FC13C8208F}" type="slidenum">
              <a:rPr b="1" lang="cs-CZ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3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0380840-9FDF-44BD-A0AF-6B9F6885EA21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CF735C3-CA86-447E-B262-1A8D7C647F2C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F1B1AE2-40B8-43EA-9D84-82DC8C563A3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1656C4D-9185-4853-8DEB-3943AE8E8EBE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667184E-1644-4832-9EE5-AF8D1941E41E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38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1BE756-03B4-4A73-8E68-3315E323D8AA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1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9489B68-A35C-4593-A0CB-33314914A2D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4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B86B31-67D6-4555-9E1F-17037F9715B6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4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20C48D-383D-4061-927F-C860AEEC07AD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Z externího přezkumu procesu RIA pro ÚV, jejichž součástí byly hloubkové rozhovory, v  r. 2013 vyplynulo, že RIA spíše nejsou v rámci legislativní praxe Parlamentu ČR využíván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Objektivní příčiny? Počty zákonů, které prochází Parlamentem ČR a počty pozměňovacích návrhů k těmto zákonům dosahují takového objemu, že při lhůtách, které mají obě komory Parlamentu stanoveny na jejich projednání, není pro většinu poslanců a senátorů ani reálné (i v případě, že by RIA rozuměli a věděli, co je její úlohou, viz subjektivní důvody) se RIA alespoň v nějaké míře zabývat (a to ani ve výborech, natož na plenárních zasedáních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S tím souvisí i připomínka některých poslanců a senátorů (sdělená v rámci hloubkového šetření), že RIA by měla mít určité stručné shrnutí dopadů vybrané varianty, které by pro poslance a senátory bylo snáze pochopitelné, než celý dlouhý a často relativně komplexní text RIA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ni v jedné z komor Parlamentu ČR není specializovaný odbor, který by byl schopen poslancům a senátorům nějakým způsobem vysvětlit a poradit, jak k RIA přistupovat, popřípadě jak ji vytvořit k pozměňovacímu návrhu, který předkládají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A19745-1B2C-48E4-BB41-611E4882D58B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9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F81601-9B84-4923-968A-B26160434135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3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ástroj prezentace motivace a evidence k návrhu ze strany vlády při předkládání a zdůvodnění vládních politi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láda v RIA má dávat Parlamentu informaci o tom, jakým způsobem byla RIA zpracována, pro jaké cíle vládní politiky se návrh předkládá, jaké dotčené subjekty byly konzultovány, jak jejich pohled a připomínky byly do návrhu zapracovány (respektive z jakých důvodů nebyly), odhalit zdůvodnění předpokladů a zdrojů dat pro identifikovaný problém, cíle a návrh věcných řešení, dopady, stejně jako informace o těch dopadech a hodnoceních, které z časových důvodů, absence dostupných dat, z absence jednoznačně průkazných vědeckých poznatků v dané oblasti, apod.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nemohly být systematicky do zdůvodnění promítnu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je vše součástí kontrolní funkce Parlamentu vůči vládě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arlament může garantovat nezávislý přístup a globální náhled na problematiku odrážející pohled dotčených subjektů, může tedy mj. vhodným korekčním prvkem  proti někdy příliš úzkému resortnímu přístupu ministerstev ve vládních návrzích politi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některých zemích je ex-post přezkum zákonů (a jejich odůvodnění) zaštítěn právě legislativním orgánem – dle zdrojů OECD např. Austrálie a Kanad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04AE5CD-7976-432E-AEDB-42617674ACBF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6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řípadě poslaneckých a senátorských iniciativ předkládaných opozicí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by pak měla existovat podpůrná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institucionální struktura pro zpracování RIA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ve smyslu obdobných požadavků kladených na vládní návrhy v rámci Parlamentu Č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Hodnocení dopadů pozměňovacích návrhů k vládním návrhům zákonů, tj. dovyhodnocení dopadů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a jejich promítnutí ve smyslu očekávané změny dopadů,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by měl provádět primárně také předkladatel pozměňovacího návrhu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, ale vláda by měla provést vlastní přezkum a srovnání dopadů (potřeba vytvořit procesní podmínky, především časové dané lhůtami projednávání) –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gestor má znalost data a metodiky, kterou využil při zpracování, která by byla podkladem pro vyhodnocení a stanovisku ministra pro hlasování o pozměňovacích návrzích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Parlament by měl systematicky zavazovat vládu k provádění a informování PČR o výsledcích ex post hodnocení účinnosti politik/zákonů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 v pevně stanovených lhůtách, především u dopadů, které v době přijímání návrhu jsou identifikovány v RIA jako těžko odhadnutelné a s vysokou pravděpodobností rozpětí scénářů vývoje při neznalosti výsledného chování subjektů, respektive při návrhu regulace zcela nových oblastí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252A002-A9B7-4EA2-AFEC-E97FACEB3FC8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59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5028B7D-17BA-4A69-A8F6-85F490B55719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957BAEA-6DC6-4E16-8742-94A5CBFAECD3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6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E1ED09-0CD0-4EDF-9E16-A3969117D70A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2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3E53DFD-5BC3-4EAB-86E6-4CFA0CBC70FF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5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CFA94A-CB74-425E-97B2-B35B1A6507C1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08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ACB517-720F-4640-8C0F-A4AAF31E98E7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1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9E7C50E-D6F2-45B2-9A8B-DE8CF53314AE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4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Calibri"/>
                <a:ea typeface="Microsoft YaHei"/>
              </a:rPr>
              <a:t>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F396EF-96BD-4303-B5DF-DF1DB88FB3F2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17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 předpisů, u kterých již byla zpracována RIA, je možné ji využít v budoucnosti v procesu přezkumu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(nastavuje systém a upřesňuje zdroje dat pro budoucí přezkum spolu s nastavením kompetencí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Umožňuje resortu – gestorovi předpisu nastavit kategorie a plán sběru dat, identifikovat odpovědné útvary pro jejich sběr, respektive pověřit podřízené organizace k jejich systematickému sledování (– tj. vytváří plán činnosti resortů a podřízených organizací!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69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86799BD-988F-4789-A60A-B1C211573253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420" name=""/>
          <p:cNvSpPr/>
          <p:nvPr/>
        </p:nvSpPr>
        <p:spPr>
          <a:xfrm>
            <a:off x="679320" y="4714920"/>
            <a:ext cx="543888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DB097FB-337B-4BCC-8F46-F108C8E5D2EC}" type="slidenum">
              <a:rPr b="1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50716-4FB6-4C35-8870-0639CE6CE4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A5F3E-7FF5-4795-8696-9B3A222AF3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A521B-62F2-45BE-BD01-801868E566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0B459-D471-43B5-B9F9-CF7759267F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5B6DAE-92AF-421D-8F6C-983B4EA89B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B5EE4-AA86-44D5-BE66-0FED45580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8D458-94A9-400C-9A63-6B141A256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4A901-DAF6-4763-B3D6-A2BD78DD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BF6E39-B925-41D7-A776-D131A206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0A304-A888-4457-9D81-377AAE6A0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E91E1-5B8F-4307-9D74-27DD284CB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60A51-A27C-431A-B6A8-76494374D8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BDD0C-24C1-49F9-9688-5DFBDEAB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301271-B71D-42C4-987B-4A881AE6D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4074A4-7C4B-4494-90DA-FB5FA282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6671D-8E01-4DCE-B958-32421C35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7E33D-6AFC-4153-90C9-CA63682496C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22DA30-6F48-444A-9DD8-8727B39FE4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5CD4FB-2C0D-4790-88D9-E16CBBB8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2408D1-B92E-431C-B719-6F2CEC1A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DE1F0D-243F-4BCB-B153-5060EA9D3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A94466-223A-4024-99CB-6DFBEEE76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0D53E-5FD6-405A-AF53-5A6364DDB54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9A884-2E47-42A2-B703-AC7D98CA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67F8F5-500B-4DB0-A4C7-767F122B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74DD8-C18D-4C2E-93B2-798842E4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8F6072-B587-419A-BDCB-6966E9CE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966B71-80F7-4F15-B3C8-7EF1D8E57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7B71A6-B027-428F-A363-1237D25A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7FB1F3-6E67-4C9F-9D68-4E8CB5E4AF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B0A0D7-B2BD-4134-8CC9-165E84556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3D16E7-32AB-424F-9512-829E70FF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0285CA-B4A7-4EE5-9838-BA33D63F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296B4-B41C-49B1-9E87-4F0F7EEFD34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0B12D0-DD96-431C-8544-5975DA810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49B0FC-9095-4812-B524-9168BF4B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F2112-2B9B-404E-9C2E-C93C7A43A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E77DF4-6CEE-4FE2-B470-DAAC19D11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0968C-31F4-411F-B32C-B465B363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6D17F6-6FD9-4B57-9BE8-594126A89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2FF2AD-CB07-435F-BE76-CC6D23755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3F5C78-5CDC-4FEB-AFA3-F0A8583F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7430FE-1AA5-4A6A-96CB-99F1AF6C3C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B63DE4-6613-47AB-9982-2514D5A65E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518BF-4E6E-480E-93D8-F1A39F28D23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851495-0AE7-43B4-B97A-7A791D81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86E0EE-8E4D-4F9C-951F-14866EDC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B2E973-9F7C-4FE0-8001-578F9E5D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F9536-834A-4C54-B9AA-3FB293D7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8A33D4-330A-4C1A-A375-332AF66F7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6929E6-0983-4AB0-8F3C-485F79443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E6C28C-D8C6-4E20-86A9-F1ADFDB0A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C89FB6-29D1-4609-B312-6375452EA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AD5AA4-27CC-4355-9CA3-25AC3B956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DD562D-8163-4D23-9E19-DFC5C5AB6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81227-EED9-417A-9982-803E2C82D62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DF0FAB-E968-4D94-B221-BE60C12855B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0FAB9-7CF2-4716-9BC7-5879A83389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4CE5F-75D5-4741-A9F0-AFE58EF1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185B14-A202-407A-9533-3F2179A2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3012-88B6-4726-AFE3-A826AEEE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1EEBB-B6FC-4C9A-8BDA-F41ADFDFC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178920" y="1125360"/>
            <a:ext cx="8712360" cy="36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3A850-C933-4498-A7F3-4B4FB200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C9F47-046A-46C2-B8CF-618AC590C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B8F7A-C721-4782-B92B-7985BF3F5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1C3CA-A320-4301-A4AF-D7E6EADC7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B2CA0-DE59-4761-AC9A-74FF940063E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05553-9038-4126-BF2D-B430BE96A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2826E-DFAF-46C1-B79C-259D5422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12480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70320" y="20606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1789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12480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70320" y="4053240"/>
            <a:ext cx="280512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03EE-2D71-4A15-ACAC-5AA9D29CA5E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43640" y="40532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FB814-E862-43C7-8911-1FB6597E8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92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43640" y="2060640"/>
            <a:ext cx="425160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8920" y="4053240"/>
            <a:ext cx="87123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6413C-ED12-4E92-BABC-A02856B40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mailto:ria@vlada.cz" TargetMode="External"/><Relationship Id="rId4" Type="http://schemas.openxmlformats.org/officeDocument/2006/relationships/hyperlink" Target="mailto:pecka.ales@vlada.cz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1125360"/>
            <a:ext cx="871236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000" spc="-1" strike="noStrike">
                <a:solidFill>
                  <a:srgbClr val="0d244d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d244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8920" y="2060640"/>
            <a:ext cx="8712360" cy="38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d244d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d244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899640" y="6245280"/>
            <a:ext cx="79916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Oddělení pro koordinaci procesu RIA, Sekce Legislativní rady vlád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78920" y="6237360"/>
            <a:ext cx="574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1" lang="cs-CZ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F64C44-4FE1-438D-BF1C-E01D77F84FEE}" type="slidenum">
              <a:rPr b="1" lang="cs-CZ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448000" cy="2887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87280" y="260280"/>
            <a:ext cx="7705800" cy="68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Úřad vlády ČR </a:t>
            </a:r>
            <a:br>
              <a:rPr sz="1300"/>
            </a:b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adresa: 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nábřeží Edvarda Beneše 4, 118 01  Praha 1</a:t>
            </a:r>
            <a:br>
              <a:rPr sz="1300"/>
            </a:b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Tel: +420 224 002 578, e-mail: </a:t>
            </a:r>
            <a:r>
              <a:rPr b="1" lang="cs-CZ" sz="13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ria@vlada.cz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cs-CZ" sz="13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pecka.ales@vlada.cz</a:t>
            </a:r>
            <a:r>
              <a:rPr b="1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1052640"/>
            <a:ext cx="8713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79280" y="6093000"/>
            <a:ext cx="8713800" cy="14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8F2815-C7B5-47AD-9A1F-D32ED32B6956}" type="datetime">
              <a: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0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6E5978-D6C2-4D15-BCEF-A6F0AE817699}" type="slidenum">
              <a:rPr b="1" lang="cs-CZ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86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22D789-4A61-4952-A289-F89329FA86D3}" type="slidenum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dt" idx="6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F22FF-6BC3-4CC3-8E3D-86EBBC9BB88B}" type="datetime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28.07.20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426AE-7A55-458A-B0CA-50409D6421D1}" type="slidenum">
              <a:rPr b="1" lang="cs-CZ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0" y="0"/>
            <a:ext cx="9142560" cy="544680"/>
            <a:chOff x="0" y="0"/>
            <a:chExt cx="9142560" cy="544680"/>
          </a:xfrm>
        </p:grpSpPr>
        <p:sp>
          <p:nvSpPr>
            <p:cNvPr id="151" name=""/>
            <p:cNvSpPr/>
            <p:nvPr/>
          </p:nvSpPr>
          <p:spPr>
            <a:xfrm>
              <a:off x="0" y="0"/>
              <a:ext cx="284040" cy="5317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2920" y="135000"/>
              <a:ext cx="8729640" cy="2728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9680" y="135000"/>
              <a:ext cx="136440" cy="13968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7560" y="0"/>
              <a:ext cx="13824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560" y="135000"/>
              <a:ext cx="138240" cy="13968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74680" y="274680"/>
              <a:ext cx="135000" cy="1364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1760" y="136440"/>
              <a:ext cx="139680" cy="1364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680" y="27144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74680" y="409680"/>
              <a:ext cx="135000" cy="13500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dt" idx="8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14AE3-38A0-46B3-BEDC-A594F5118D70}" type="datetime">
              <a: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"/>
          <p:cNvGrpSpPr/>
          <p:nvPr/>
        </p:nvGrpSpPr>
        <p:grpSpPr>
          <a:xfrm>
            <a:off x="0" y="0"/>
            <a:ext cx="9158400" cy="6856560"/>
            <a:chOff x="0" y="0"/>
            <a:chExt cx="9158400" cy="6856560"/>
          </a:xfrm>
        </p:grpSpPr>
        <p:sp>
          <p:nvSpPr>
            <p:cNvPr id="200" name=""/>
            <p:cNvSpPr/>
            <p:nvPr/>
          </p:nvSpPr>
          <p:spPr>
            <a:xfrm>
              <a:off x="8305920" y="1440"/>
              <a:ext cx="836640" cy="6855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67652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3200" y="0"/>
              <a:ext cx="68436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280" y="0"/>
              <a:ext cx="379440" cy="68565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33720" y="0"/>
              <a:ext cx="6080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62120" y="0"/>
              <a:ext cx="9126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57200" y="0"/>
              <a:ext cx="3031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0"/>
              <a:ext cx="455760" cy="685656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2900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1972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981080" y="0"/>
              <a:ext cx="22716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238720" y="0"/>
              <a:ext cx="398520" cy="685656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91520" y="0"/>
              <a:ext cx="22680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5200" y="0"/>
              <a:ext cx="10652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562720" y="0"/>
              <a:ext cx="98892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95880" y="0"/>
              <a:ext cx="83664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4320" y="0"/>
              <a:ext cx="37944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54480" y="0"/>
              <a:ext cx="239760" cy="685656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55880" y="0"/>
              <a:ext cx="532080" cy="685656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6151680"/>
              <a:ext cx="9142560" cy="70488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0" y="6138720"/>
              <a:ext cx="9158400" cy="2746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9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EA4CA-9803-4912-89BD-91933BC54404}" type="datetime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28.07.2026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000" spc="-1" strike="noStrike">
                <a:solidFill>
                  <a:srgbClr val="000000"/>
                </a:solidFill>
                <a:latin typeface="Tahoma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D9418-71FC-4055-BE5C-2D7A3556A634}" type="slidenum">
              <a:rPr b="1" lang="cs-CZ" sz="1000" spc="-1" strike="noStrike">
                <a:solidFill>
                  <a:srgbClr val="000000"/>
                </a:solidFill>
                <a:latin typeface="Tahoma"/>
                <a:ea typeface="Segoe UI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"/>
            <p:cNvSpPr/>
            <p:nvPr/>
          </p:nvSpPr>
          <p:spPr>
            <a:xfrm>
              <a:off x="0" y="0"/>
              <a:ext cx="3503520" cy="685656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716120" y="1690560"/>
              <a:ext cx="7426440" cy="2532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" name=""/>
            <p:cNvGrpSpPr/>
            <p:nvPr/>
          </p:nvGrpSpPr>
          <p:grpSpPr>
            <a:xfrm>
              <a:off x="0" y="1066680"/>
              <a:ext cx="2865600" cy="3156120"/>
              <a:chOff x="0" y="1066680"/>
              <a:chExt cx="2865600" cy="3156120"/>
            </a:xfrm>
          </p:grpSpPr>
          <p:sp>
            <p:nvSpPr>
              <p:cNvPr id="266" name=""/>
              <p:cNvSpPr/>
              <p:nvPr/>
            </p:nvSpPr>
            <p:spPr>
              <a:xfrm>
                <a:off x="573120" y="3583080"/>
                <a:ext cx="574560" cy="6397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1716120" y="1690560"/>
                <a:ext cx="573120" cy="6415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281320" y="1066680"/>
                <a:ext cx="584280" cy="6336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1141560" y="3583080"/>
                <a:ext cx="582480" cy="6397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81320" y="1690560"/>
                <a:ext cx="58428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141560" y="2324160"/>
                <a:ext cx="582480" cy="6318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0" y="2324160"/>
                <a:ext cx="581040" cy="63180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716120" y="2324160"/>
                <a:ext cx="573120" cy="6318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73120" y="294804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41560" y="2948040"/>
                <a:ext cx="58248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8160" cy="13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8160" cy="38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1"/>
          </p:nvPr>
        </p:nvSpPr>
        <p:spPr>
          <a:xfrm>
            <a:off x="457200" y="6248160"/>
            <a:ext cx="21319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AB0FB1-FD36-4B2C-BE68-A2CDB979D208}" type="datetime">
              <a:rPr b="1" lang="cs-CZ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026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22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 Black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AFF03-D19D-4B78-8710-EC517C298DA1}" type="slidenum">
              <a:rPr b="1" lang="cs-CZ" sz="1200" spc="-1" strike="noStrike">
                <a:solidFill>
                  <a:srgbClr val="000000"/>
                </a:solidFill>
                <a:latin typeface="Arial Black"/>
                <a:ea typeface="Segoe U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mailto:pecka.ales@vlada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611280" y="1844640"/>
            <a:ext cx="791820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cs-CZ" sz="32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a jeho využití v legislativním procesu </a:t>
            </a:r>
            <a:br>
              <a:rPr sz="3200"/>
            </a:br>
            <a:br>
              <a:rPr sz="2000"/>
            </a:br>
            <a:r>
              <a:rPr b="1" i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Aleš Pecka</a:t>
            </a:r>
            <a:br>
              <a:rPr sz="2400"/>
            </a:br>
            <a:r>
              <a:rPr b="1" i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Úřad vlády ČR</a:t>
            </a:r>
            <a:br>
              <a:rPr sz="2400"/>
            </a:br>
            <a:br>
              <a:rPr sz="2400"/>
            </a:br>
            <a:r>
              <a:rPr b="1" i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21. dubna 2015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v rámci semináře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„Nabídka na spolupráci při odborném posouzení dopadů regulace (RIA) </a:t>
            </a: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pro obě komory Parlamentu České republiky“</a:t>
            </a:r>
            <a:br>
              <a:rPr sz="1600"/>
            </a:br>
            <a:r>
              <a:rPr b="1" lang="cs-CZ" sz="1600" spc="-1" strike="noStrike">
                <a:solidFill>
                  <a:srgbClr val="0d244d"/>
                </a:solidFill>
                <a:latin typeface="Arial"/>
                <a:ea typeface="Microsoft YaHei"/>
              </a:rPr>
              <a:t>Ústavně právní výbor PS PČR</a:t>
            </a:r>
            <a:br>
              <a:rPr sz="1600"/>
            </a:b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32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výstupem procesu RIA na úrovni vlád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9280" y="198900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Závěrečná zpráva RI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Shrnuje výsledky provedené 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Je stanovena šablona pro závěrečnou zprávu RIA včetně Shrnutí pro návrhy zákonů (aktualizace od 1.2.2014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 řešení více problémů je předkladatel oprávněn přiměřeně upravit strukturu provedené RI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Závěrečná zpráva RIA musí být v souladu s návrhem právního předpisu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, že dojde před předložením návrhu právního předpisu vládě ke změnám, které mají věcné dopady, je nutné dopracovat v tomto ohledu RIA včetně závěrečné zprávy před jednáním vlády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 případě, kdy dojde ke změnám v návrhu právního předpisu na jednání vlády, závěrečná zpráva se již nedopracovává, tato skutečnost se uvede pouze v důvodové právě, která je předkládána do Parlamentu Č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na úrovni vlády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Na úrovni vlády předložen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85 návrhů právních předpisů (VZZ, návrhy zákonů a návrhy nařízení)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– z toh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10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se zpracovanou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Z toho návrhy zákonů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119 na úrovni vlády (117+2 NÚZ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V rámci poslaneckých a senátních iniciativ předloženo v Parlamentu ČR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70 návrhů zákon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Celkově tedy předloženo 189 návrhů zákonů včetně novel existujících předpisů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Na úrovni vlády předloženo dále 220 návrhů podzákonných předpisů (61 nařízení vlády a 159 návrhů vyhláše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očty návrhů právních předpisů v ČR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179280" y="2060640"/>
          <a:ext cx="8715240" cy="3817440"/>
        </p:xfrm>
        <a:graphic>
          <a:graphicData uri="http://schemas.openxmlformats.org/drawingml/2006/table">
            <a:tbl>
              <a:tblPr/>
              <a:tblGrid>
                <a:gridCol w="5832000"/>
                <a:gridCol w="2883240"/>
              </a:tblGrid>
              <a:tr h="3412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pis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3776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zákonů předložených na půdě Parlamentu ČR (bez RIA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48312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primárních (zákonných) právních předpisů na úrovni vlády (návrhy zákonů - NZ 117 a návrhy ústavních zákonů - NÚZ 2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a1c7"/>
                    </a:solidFill>
                  </a:tcPr>
                </a:tc>
              </a:tr>
              <a:tr h="2714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zákonů předložených v ČR v r. 2014 celkem (119+70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3780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za rok 2014 celkem (NZ 117, NÚZ 2, VZZ 5, NNV 61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f497a"/>
                    </a:solidFill>
                  </a:tcPr>
                </a:tc>
              </a:tr>
              <a:tr h="2718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bez zpracované RIA (NZ, N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3776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ládní návrhy právních předpisů (NZ, VZZ, NV) se zpracovanou RIA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7324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z toho Věcné záměry zákonů (VZZ) – RIA povinná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fec"/>
                    </a:solidFill>
                  </a:tcPr>
                </a:tc>
              </a:tr>
              <a:tr h="27180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 toho vládní návrhy posuzované Komisí RIA v r. 20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8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podzákonných právních předpisů na úrovni vlády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 toho návrhy nařízení vlády (NV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9480"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ávrhy vyhláše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55800" bIns="46800" anchor="ctr">
                      <a:noAutofit/>
                    </a:bodyPr>
                    <a:p>
                      <a:pPr marL="609480" indent="-608040">
                        <a:lnSpc>
                          <a:spcPct val="93000"/>
                        </a:lnSpc>
                        <a:tabLst>
                          <a:tab algn="l" pos="0"/>
                          <a:tab algn="l" pos="609480"/>
                          <a:tab algn="l" pos="1523880"/>
                          <a:tab algn="l" pos="2438280"/>
                          <a:tab algn="l" pos="3352680"/>
                          <a:tab algn="l" pos="4267080"/>
                          <a:tab algn="l" pos="5181480"/>
                          <a:tab algn="l" pos="6095880"/>
                          <a:tab algn="l" pos="7010280"/>
                          <a:tab algn="l" pos="7924680"/>
                          <a:tab algn="l" pos="8839080"/>
                          <a:tab algn="l" pos="9753480"/>
                          <a:tab algn="l" pos="10667880"/>
                          <a:tab algn="l" pos="10782360"/>
                        </a:tabLst>
                      </a:pPr>
                      <a:r>
                        <a:rPr b="1" i="1" lang="cs-CZ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roč institucionální přezkum kvality RI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Garance kvality metodiky a vnitřní koherence evidence zpracované v RIA resorty při předkládání návrhu rozhodnutí vládě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V rámci Legislativní rady vlády vykonává specializovaná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Komise R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Ustavena v listopadu 201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BD1A66-D736-4771-B6F8-0D1E8FDB9B2B}" type="slidenum">
              <a:rPr b="1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395280" y="189000"/>
            <a:ext cx="8437680" cy="61992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3780000" y="1413000"/>
            <a:ext cx="1895400" cy="993600"/>
          </a:xfrm>
          <a:prstGeom prst="wedgeRectCallout">
            <a:avLst>
              <a:gd name="adj1" fmla="val 18675"/>
              <a:gd name="adj2" fmla="val -110703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RIA navrhuje, u kterých legislativních návrhů má být provedeno hodnocení dopadů regulace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780000" y="2565360"/>
            <a:ext cx="1895400" cy="1295280"/>
          </a:xfrm>
          <a:prstGeom prst="wedgeRectCallout">
            <a:avLst>
              <a:gd name="adj1" fmla="val 105944"/>
              <a:gd name="adj2" fmla="val -3064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poskytuje konzultace zpracovatelům RIA k metodickým otázkám ve spolupráci s oddělením koordinace procesu RIA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80000" y="4076640"/>
            <a:ext cx="1944360" cy="1008000"/>
          </a:xfrm>
          <a:prstGeom prst="wedgeRectCallout">
            <a:avLst>
              <a:gd name="adj1" fmla="val 16694"/>
              <a:gd name="adj2" fmla="val 104958"/>
            </a:avLst>
          </a:prstGeom>
          <a:noFill/>
          <a:ln cap="sq" w="936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000" spc="-1" strike="noStrike">
                <a:solidFill>
                  <a:srgbClr val="5f497a"/>
                </a:solidFill>
                <a:latin typeface="Calibri"/>
                <a:ea typeface="MS PGothic"/>
              </a:rPr>
              <a:t>Komise přezkoumává kvalitu RIA po věcné stránce; pokud předložená Závěrečná zpráva RIA není akceptovatelná, je vyžadováno její dopracování. 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Činnost Komise RIA v r. 2014 v číslec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Na úrovni vlády předloženo v r. 2014 185 návrhů předpisů – z toh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Microsoft YaHei"/>
              </a:rPr>
              <a:t>110 se zpracovanou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Komise RIA projednala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65 závěrečných zpráv RIA k návrhům zákonů, věcných záměrů zákonů a návrhům nařízení vlád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u 24 návrhů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37% ze všech stanovisek) vydala napoprvé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kladné stanovisk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u zbývajících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41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63%) vydala stanovisko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s žádostí o dopracování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(s různou mírou závažnosti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pouze u 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8 návrhů nedoporučila</a:t>
            </a: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 Unicode MS"/>
              </a:rPr>
              <a:t> Komise po projednání či dopracování schválení závěrečné zprávy 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37B490-95C2-48B7-911B-16729C92E076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58920" y="1197000"/>
          <a:ext cx="6322680" cy="4758840"/>
        </p:xfrm>
        <a:graphic>
          <a:graphicData uri="http://schemas.openxmlformats.org/drawingml/2006/table">
            <a:tbl>
              <a:tblPr/>
              <a:tblGrid>
                <a:gridCol w="939600"/>
                <a:gridCol w="938880"/>
                <a:gridCol w="955800"/>
                <a:gridCol w="871560"/>
                <a:gridCol w="873720"/>
                <a:gridCol w="871560"/>
                <a:gridCol w="871560"/>
              </a:tblGrid>
              <a:tr h="512640"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ředkladatel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ty návrhů předložených s RIA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l-P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toho projednaných v Komisi RIA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rowSpan="2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negativním stanoviske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gridSpan="3"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kladným stanoviskem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z připomíne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dopracování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 přepracování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404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K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MR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54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O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S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p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ŠMT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d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404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ZV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ŽP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- ÚOHS 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b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VVI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V - SÚJB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193680">
                <a:tc>
                  <a:txBody>
                    <a:bodyPr lIns="0" rIns="0" tIns="9000" bIns="0" anchor="ctr">
                      <a:noAutofit/>
                    </a:bodyPr>
                    <a:p>
                      <a:pPr algn="just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kem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0" rIns="0" tIns="9000" bIns="0" anchor="ctr">
                      <a:noAutofit/>
                    </a:bodyPr>
                    <a:p>
                      <a:pPr algn="r"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cs-CZ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575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Graficky podíl výsledných stanovisek Komise RIA v r.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545A00-6328-47AF-BA80-799798DB7082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843280" y="1773360"/>
            <a:ext cx="590544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Srovnání výsledných stanovisek za roky 2012, 2013 a 2014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94B1FC-C276-4640-A698-6F8AA44BE48B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1576440" y="2060640"/>
            <a:ext cx="591984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v legislativním procesu: jaké máme dosavadní poznatky o využití RIA v PČR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Z externího přezkumu procesu RIA pro ÚV r. 2013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yplynulo, že v rámci legislativní praxe Parlamentu závěrečné zprávy RIA spíše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ejsou využívány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říčiny? Vyplývá někdy jednak z faktické neznalosti zákonodárců, ale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dáno také počty zákonů a počty pozměňovacích návrhů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k těmto zákonům, které prochází Parlamentem ČR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 daných lhůtách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, které mají obě komory Parlamentu pro projednání není pro většinu poslanců a senátorů ani reálné se RIA alespoň v nějaké míře zabývat (a to ani ve výborech, natož na plenárních zasedáních)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Mj. proto bylo ze strany RIA poslanců a senátorů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voláno po stručném shrnutí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dopadů vybrané varianty, které by pro poslance a senátory bylo snáze pochopitelné, než celý dlouhý a často relativně komplexní text RIA. 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Ani v jedné z komor Parlamentu ČR 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ení dále specializovaný odbor</a:t>
            </a: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, který by byl schopen poslancům a senátorům nějakým způsobem vysvětlit a poradit, jak k RIA přistupovat, popřípadě jak ji vytvořit k pozměňovacímu návrhu, který předkládají.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Obsah přednášk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to RIA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Institucionální zakotvení procesu RIA na úrovni vlád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Proces RIA na úrovni vlády v čísle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Důvody pro posílení procesu RIA v PČR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Arial"/>
              <a:buAutoNum type="romanUcPeriod"/>
              <a:tabLst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Microsoft YaHei"/>
              </a:rPr>
              <a:t>Zlepšení procesu RIA v PČR: možnosti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816120"/>
                <a:tab algn="l" pos="1730520"/>
                <a:tab algn="l" pos="2644920"/>
                <a:tab algn="l" pos="3559320"/>
                <a:tab algn="l" pos="4473720"/>
                <a:tab algn="l" pos="5388120"/>
                <a:tab algn="l" pos="6302520"/>
                <a:tab algn="l" pos="7216920"/>
                <a:tab algn="l" pos="8131320"/>
                <a:tab algn="l" pos="9045720"/>
                <a:tab algn="l" pos="996012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nit for Coordination of RIA Process, Government Legislative Council Se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2C37A9-2465-4E6D-AC4E-6495A66B959E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RIA a využití ze strany PČR – důvody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5092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Nástroj prezentace motivace a evidence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k návrhu předpisů ze strany vlády při předkládání a zdůvodnění vládních politi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Může být nahlíženo jako součást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kontrolní funkce parlamentu vůči vládě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Vláda v RIA má parlament informovat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, jakým způsobem byla RIA zpracována, pro jaké cíle vládní politiky se návrh předkládá, jaké dotčené subjekty byly konzultovány, jak jejich pohled a připomínky byly do návrhu zapracovány (respektive z jakých důvodů nebyly), stejně jako informace o těch dopadech a hodnoceních, které z časových důvodů, absence dostupných dat, z absence jednoznačně průkazných vědeckých poznatků v dané oblasti, apod. 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nemohly být systematicky do zdůvodnění promítnu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Parlament může garantovat nezávislý přístup a globální náhled na problematiku odrážející mj. pohled dotčených subjektů a může být korigujícím prvkem  proti někdy příliš úzkému resortnímu přístupu ministerstev ve vládních návrzích politik a regulac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V některých zemích je ex-post přezkum zákonů (a jejich odůvodnění) zaštítěn právě legislativním orgánem</a:t>
            </a: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Jak zlepšit proces RIA a jeho podporu v PČ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79280" y="1773360"/>
            <a:ext cx="871380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případě poslaneckých a senátorských iniciativ předkládaných opozicí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by pak měla existovat podpůrná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institucionální struktura pro zpracování RIA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ve smyslu obdobných požadavků kladených na vládní návrhy v rámci Parlamentu Č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Hodnocení dopadů pozměňovacích návrhů k vládním návrhům zákonů, tj. dovyhodnocení dopadů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a jejich promítnutí ve smyslu očekávané změny dopadů, 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by měl provádět primárně také předkladatel pozměňovacího návrhu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, ale vláda by měla provést vlastní přezkum a srovnání dopadů (potřeba vytvořit procesní podmínky, především časové dané lhůtami projednávání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Parlament by měl systematicky zavazovat vládu k provádění a informování PČR o výsledcích ex post hodnocení účinnosti politik/zákonů</a:t>
            </a: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Arial"/>
              </a:rPr>
              <a:t> v pevně stanovených lhůtách, především u dopadů, které v době přijímání návrhu jsou identifikovány v RIA jako těžko odhadnutelné a s vysokou pravděpodobností rozpětí scénářů vývoje při neznalosti výsledného chování subjektů, respektive při návrhu regulace zcela nových oblastí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Výhled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Možná metodická pomoc ze strany útvarů Sekce LRV ÚV pro nastavení procesů RIA v PČ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Zprostředkování zahraniční zkušenosti z členských zemí OECD i aktuálních debat nad problematikou provádění hodnocení dopadů i na úrovni EU mezi Evropskou komisí, Radou EU a Evropským parlament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Otázky do diskuse: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"/>
              </a:rPr>
              <a:t>Jak zlepšit strukturu a prezentaci závěrečných zpráv RIA v rámci důvodových zpráv, aby byly aktivně využívány v Parlamentu jako součást přezkumu návrhu a jeho zdůvodnění ze strany zákonodárců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d244d"/>
                </a:solidFill>
                <a:latin typeface="Arial"/>
                <a:ea typeface="Arial"/>
              </a:rPr>
              <a:t>Jaké jsou procesní možnosti, aby důvodová zpráva z hlediska hodnocení dopadů měla svou vypovídací hodnotu i pro projednávání a formulaci pozměňovacích návrhů a odrážela znalost dopadů pozměňovacích návrhů před finálním schvalování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684360" y="1413000"/>
            <a:ext cx="777240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d244d"/>
                </a:solidFill>
                <a:latin typeface="Arial"/>
                <a:ea typeface="Microsoft YaHei"/>
              </a:rPr>
              <a:t>Děkuji za pozornost!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5640" y="3284640"/>
            <a:ext cx="777240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Aleš Peck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pov. vedoucí oddělení pro koordinaci procesu RIA,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odbor hodnocení dopadů regulace, Úřad vlády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e-mail: </a:t>
            </a:r>
            <a:r>
              <a:rPr b="1" lang="cs-CZ" sz="2000" spc="-1" strike="noStrike" u="sng">
                <a:solidFill>
                  <a:srgbClr val="ccccff"/>
                </a:solidFill>
                <a:uFillTx/>
                <a:latin typeface="Arial"/>
                <a:ea typeface="Microsoft YaHei"/>
                <a:hlinkClick r:id="rId1"/>
              </a:rPr>
              <a:t>pecka.ales@vlada.cz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Tel: +420 224 002 57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Unit for Coordination of RIA Process, Government Legislative Council Section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92E2A0-4694-4D46-897D-704B5A7CEF9A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je to RI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Dle oficiální definice je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hodnocení dopadů regulace (dále jen „RIA“ z angl. Regulatory Impact Assessment)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soustavou analytických metod směřujících k systematickému hodnocení očekávaných dopadů navrhovaných politik a právních předpisů, kterými jsou implementovány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Co to znamená, k čemu může být RIA využita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zdůvodnění návrhů politik na základě podložené evidence a zdůvodnění – posílení transparentnosti rozhodování a zkvalitnění leg. postup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identifikaci zastaralé legislativy (viz ex post R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Nástroj pro prevenci zbytečné regulace a pojistka proti „legislativní inflaci“ (viz ex ante RI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Tvorba politik opřená o konzultace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Identifikace preferencí a variant řešení ze strany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Podpůrné argumenty pro předkladatele a identifikace potenciálních kritických výhrad ze strany dotčených subjektů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d244d"/>
                </a:solidFill>
                <a:latin typeface="Arial"/>
                <a:ea typeface="Microsoft YaHei"/>
              </a:rPr>
              <a:t>Analýza nákladů a přínosů navrhovaných variant řešení – prezentace úvah a zvoleného řešení pro členy Parlament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BFCB5FB-9DA2-41CC-812E-5852491A96E1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RIA v rozhodovacím procesu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206064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Jedná se o systematický přístup za účelem kritického vyhodnocení pozitivních a negativních účinků navržených regulací a nelegislativních opatření i v kontextu dopadů na stávající regulac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Hovoříme také o </a:t>
            </a: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regulatorním cykl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d244d"/>
                </a:solidFill>
                <a:latin typeface="Arial"/>
                <a:ea typeface="Arial"/>
              </a:rPr>
              <a:t>Jeho součástí je hodnocení nových politik (ex ante RIA) i stávajících politik a regulace (ex post RIA) – viz následující sché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9ACFF23-58C4-4183-A206-C7FC2BD5B2E8}" type="slidenum">
              <a:rPr b="1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contrast="18000"/>
            <a:alphaModFix amt="7000"/>
          </a:blip>
          <a:stretch/>
        </p:blipFill>
        <p:spPr>
          <a:xfrm>
            <a:off x="324000" y="260280"/>
            <a:ext cx="8437320" cy="619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116000" y="4005360"/>
            <a:ext cx="1944720" cy="934920"/>
          </a:xfrm>
          <a:prstGeom prst="flowChartProcess">
            <a:avLst/>
          </a:prstGeom>
          <a:noFill/>
          <a:ln cap="sq"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258920" y="260280"/>
            <a:ext cx="2592360" cy="2592360"/>
          </a:xfrm>
          <a:prstGeom prst="flowChartProcess">
            <a:avLst/>
          </a:prstGeom>
          <a:solidFill>
            <a:srgbClr val="800080">
              <a:alpha val="3000"/>
            </a:srgbClr>
          </a:solidFill>
          <a:ln cap="sq"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800080"/>
                </a:solidFill>
                <a:latin typeface="Arial"/>
                <a:ea typeface="Arial"/>
              </a:rPr>
              <a:t>Ex post RI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24360" y="1628640"/>
            <a:ext cx="4248000" cy="5040360"/>
          </a:xfrm>
          <a:prstGeom prst="flowChartProcess">
            <a:avLst/>
          </a:prstGeom>
          <a:noFill/>
          <a:ln cap="sq" w="2844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0000ff"/>
                </a:solidFill>
                <a:latin typeface="Arial"/>
                <a:ea typeface="Arial"/>
              </a:rPr>
              <a:t>Ex ante RIA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3590280" y="1388160"/>
            <a:ext cx="814320" cy="866880"/>
          </a:xfrm>
          <a:custGeom>
            <a:avLst/>
            <a:gdLst>
              <a:gd name="textAreaLeft" fmla="*/ 468360 w 814320"/>
              <a:gd name="textAreaRight" fmla="*/ 687240 w 814320"/>
              <a:gd name="textAreaTop" fmla="*/ 116640 h 866880"/>
              <a:gd name="textAreaBottom" fmla="*/ 371160 h 866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800080">
              <a:alpha val="42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rot="16200000">
            <a:off x="2833560" y="3077640"/>
            <a:ext cx="1390680" cy="1082880"/>
          </a:xfrm>
          <a:custGeom>
            <a:avLst/>
            <a:gdLst>
              <a:gd name="textAreaLeft" fmla="*/ 800280 w 1390680"/>
              <a:gd name="textAreaRight" fmla="*/ 1173600 w 1390680"/>
              <a:gd name="textAreaTop" fmla="*/ 145800 h 1082880"/>
              <a:gd name="textAreaBottom" fmla="*/ 463680 h 1082880"/>
            </a:gdLst>
            <a:ahLst/>
            <a:rect l="textAreaLeft" t="textAreaTop" r="textAreaRight" b="textAreaBottom"/>
            <a:pathLst>
              <a:path w="21600" h="21600">
                <a:moveTo>
                  <a:pt x="21600" y="6079"/>
                </a:moveTo>
                <a:lnTo>
                  <a:pt x="15126" y="0"/>
                </a:lnTo>
                <a:lnTo>
                  <a:pt x="15126" y="2912"/>
                </a:lnTo>
                <a:lnTo>
                  <a:pt x="12427" y="2912"/>
                </a:lnTo>
                <a:cubicBezTo>
                  <a:pt x="5564" y="2912"/>
                  <a:pt x="0" y="7052"/>
                  <a:pt x="0" y="12158"/>
                </a:cubicBezTo>
                <a:lnTo>
                  <a:pt x="0" y="21600"/>
                </a:lnTo>
                <a:lnTo>
                  <a:pt x="6474" y="21600"/>
                </a:lnTo>
                <a:lnTo>
                  <a:pt x="6474" y="12158"/>
                </a:lnTo>
                <a:cubicBezTo>
                  <a:pt x="6474" y="10550"/>
                  <a:pt x="9139" y="9246"/>
                  <a:pt x="12427" y="9246"/>
                </a:cubicBezTo>
                <a:lnTo>
                  <a:pt x="15126" y="9246"/>
                </a:lnTo>
                <a:lnTo>
                  <a:pt x="15126" y="12158"/>
                </a:lnTo>
                <a:lnTo>
                  <a:pt x="21600" y="6079"/>
                </a:lnTo>
                <a:close/>
              </a:path>
            </a:pathLst>
          </a:custGeom>
          <a:solidFill>
            <a:srgbClr val="0000ff">
              <a:alpha val="42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11280" y="2924280"/>
            <a:ext cx="648000" cy="1081080"/>
          </a:xfrm>
          <a:prstGeom prst="upArrow">
            <a:avLst>
              <a:gd name="adj1" fmla="val 50000"/>
              <a:gd name="adj2" fmla="val 41708"/>
            </a:avLst>
          </a:prstGeom>
          <a:solidFill>
            <a:srgbClr val="ff0000">
              <a:alpha val="33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600" spc="-1" strike="noStrike">
                <a:solidFill>
                  <a:srgbClr val="ff3300"/>
                </a:solidFill>
                <a:latin typeface="Arial"/>
                <a:ea typeface="Arial"/>
              </a:rPr>
              <a:t>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423720" y="1197000"/>
            <a:ext cx="871380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000" spc="-1" strike="noStrike">
                <a:solidFill>
                  <a:srgbClr val="0d244d"/>
                </a:solidFill>
                <a:latin typeface="Arial"/>
                <a:ea typeface="Microsoft YaHei"/>
              </a:rPr>
              <a:t>Přezkum účinnosti právních předpisů – Proč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 u="sng">
                <a:solidFill>
                  <a:srgbClr val="0d244d"/>
                </a:solidFill>
                <a:uFillTx/>
                <a:latin typeface="Arial"/>
                <a:ea typeface="Arial Unicode MS"/>
              </a:rPr>
              <a:t>Proč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V současnosti chybí systematický sběr podkladů ze strany vlády pro vyhodnocování relevantnosti a kvality právních předpisů (v praxi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 u="sng">
                <a:solidFill>
                  <a:srgbClr val="0d244d"/>
                </a:solidFill>
                <a:uFillTx/>
                <a:latin typeface="Arial"/>
                <a:ea typeface="Arial Unicode MS"/>
              </a:rPr>
              <a:t>Jak?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ex-ante RIA: využití v procesu ex-post evaluace právní regulace, požadavky již dnes součástí metodiky Obecných zásad 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indikátory: nastaveny předkladatelem, tj. vládou, na jím definované cíle návrhu právního předpisu (v ex ante RIA) – jsou podkladem pro systematické provedení přezkumu, způsobu implementace a případné korekce zjištěných dopadů dle skutečnosti v prax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následný ex-post přezkum tedy může odhalit nedostatky v nastavení vládní politiky a přinést podklady pro vhodný návrh a odůvodnění její korek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244d"/>
              </a:buClr>
              <a:buFont typeface="Wingdings" charset="2"/>
              <a:buChar char=""/>
              <a:tabLst>
                <a:tab algn="l" pos="303120"/>
                <a:tab algn="l" pos="1217520"/>
                <a:tab algn="l" pos="2131920"/>
                <a:tab algn="l" pos="3046320"/>
                <a:tab algn="l" pos="3960720"/>
                <a:tab algn="l" pos="4875120"/>
                <a:tab algn="l" pos="5789520"/>
                <a:tab algn="l" pos="6703920"/>
                <a:tab algn="l" pos="7618320"/>
                <a:tab algn="l" pos="8532720"/>
                <a:tab algn="l" pos="94471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d244d"/>
                </a:solidFill>
                <a:latin typeface="Arial"/>
                <a:ea typeface="Arial Unicode MS"/>
              </a:rPr>
              <a:t>v ex post RIA musí ale být promítnut dopad pozměňovacích návrhů přijatých v Parlamentu ČR (!) – fakticky totiž mění původní dopady předpokládané vládou ve vládních návrzí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900000" y="6245280"/>
            <a:ext cx="7993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Oddělení pro koordinaci procesu RIA, Sekce Legislativní rady vlád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http://ria.vlada.cz 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79280" y="6237360"/>
            <a:ext cx="576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2072D8C-425C-4F98-96D2-6025D5E8B2C1}" type="slidenum">
              <a:rPr b="1" lang="cs-CZ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Přezkum právních předpisů: Využití RI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U předpisů, u kterých již byla zpracována RI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RIA nastavuje matici hodnot a indikátorů, které lze pro vyhodnocení účinnosti sledovat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Umožňuje resortu – gestorovi předpisu nastavit kategorie a plán sběru dat, identifikovat odpovědné útvary pro jejich sběr, respektive pověřit podřízené organizace systematickým sledováním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Předpokladem jsou ale pečlivě nastavené ukazatele („viz indikátory“) v ex-ante RIA a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jich případná aktualizace v případě přijetí zásadních pozměňovacích návrhů v průběhu legislativního procesu a na jeho konci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– (Parlament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dním z měřítek hodnocení kvality zpracované RIA z hlediska využitelnosti pro budoucí přezkum pro návrhy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předkládané k rozhodnutí vlády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 </a:t>
            </a:r>
            <a:r>
              <a:rPr b="1" lang="cs-CZ" sz="2200" spc="-1" strike="noStrike">
                <a:solidFill>
                  <a:srgbClr val="0d244d"/>
                </a:solidFill>
                <a:latin typeface="Arial"/>
                <a:ea typeface="Arial Unicode MS"/>
              </a:rPr>
              <a:t>je posouzení ze strany Komise RI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79280" y="1125360"/>
            <a:ext cx="8713800" cy="7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2600" spc="-1" strike="noStrike">
                <a:solidFill>
                  <a:srgbClr val="0d244d"/>
                </a:solidFill>
                <a:latin typeface="Arial"/>
                <a:ea typeface="Microsoft YaHei"/>
              </a:rPr>
              <a:t>Institucionální zabezpečení RIA na úrovni vlád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1916280"/>
            <a:ext cx="87138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Ústřední správní úřa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Odpovědnost za provádění RIA a kvalitu zpracování závěrečné zprávy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2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racovní komise Legislativní rady vlády pro hodnocení dopadů regul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osuzování kvality provedených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rovádění konzultací k RIA v průběhu jejího zpracování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Na základě přehledu dopadů doporučuje zpracování nebo nezpracování RIA do Plánu legislativních prací vlá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948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Úřad vlády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Poskytuje metodickou pomoc při provádění RIA a koordinaci celého procesu RIA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88920" indent="-531720">
              <a:lnSpc>
                <a:spcPct val="80000"/>
              </a:lnSpc>
              <a:spcBef>
                <a:spcPts val="476"/>
              </a:spcBef>
              <a:buClr>
                <a:srgbClr val="0d244d"/>
              </a:buClr>
              <a:buFont typeface="Wingdings" charset="2"/>
              <a:buChar char="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cs-CZ" sz="1900" spc="-1" strike="noStrike">
                <a:solidFill>
                  <a:srgbClr val="0d244d"/>
                </a:solidFill>
                <a:latin typeface="Arial"/>
                <a:ea typeface="Arial"/>
              </a:rPr>
              <a:t>Zpracovává věcné podklady pro pracovní komisi pro hodnocení dopadů regulace</a:t>
            </a: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20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08040" indent="-6080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1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7:19:07Z</dcterms:created>
  <dc:creator>moje</dc:creator>
  <dc:description/>
  <dc:language>en-US</dc:language>
  <cp:lastModifiedBy>Pecka Aleš</cp:lastModifiedBy>
  <cp:lastPrinted>2015-02-27T11:52:07Z</cp:lastPrinted>
  <dcterms:modified xsi:type="dcterms:W3CDTF">2015-04-20T13:18:48Z</dcterms:modified>
  <cp:revision>330</cp:revision>
  <dc:subject/>
  <dc:title>Intranet Úřadu vlády  České republiky</dc:title>
</cp:coreProperties>
</file>