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d244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4"/>
          </p:nvPr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E7E69C-EA6C-4628-B8F7-A2067AF191D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663BFA-B038-4ECB-ADCB-034B0A4761F4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C316CF-8F5B-4665-981E-76B4208B3D45}" type="slidenum">
              <a:rPr b="1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58A6CF-D15D-4BFD-84F2-C41B07047F9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C6B281-CA5A-42D4-9E5B-BEDE9F8DF562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0BFA9-F46B-4CC5-9AEC-2611C418B840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7FEDF-3560-4B77-8C4A-0F650F75B62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F46704-BF55-4267-B894-084C3A012EBA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60877A-CE1B-496F-813D-32B0270B0DA6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86ED69-66FC-4923-8765-BD8CF5C4A52C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6911D5-97D5-4A38-A773-CB1D6C2633BB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513B94-D54E-4C6C-9AE2-61312810F87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 externího přezkumu procesu RIA pro ÚV, jejichž součástí byly hloubkové rozhovory, v  r. 2013 vyplynulo, že RIA spíše nejsou v rámci legislativní praxe Parlamentu ČR využíván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bjektivní příčiny? Počty zákonů, které prochází Parlamentem ČR a počty pozměňovacích návrhů k těmto zákonům dosahují takového objemu, že při lhůtách, které mají obě komory Parlamentu stanoveny na jejich projednání, není pro většinu poslanců a senátorů ani reálné (i v případě, že by RIA rozuměli a věděli, co je její úlohou, viz subjektivní důvody) se RIA alespoň v nějaké míře zabývat (a to ani ve výborech, natož na plenárních zasedáních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 tím souvisí i připomínka některých poslanců a senátorů (sdělená v rámci hloubkového šetření), že RIA by měla mít určité stručné shrnutí dopadů vybrané varianty, které by pro poslance a senátory bylo snáze pochopitelné, než celý dlouhý a často relativně komplexní text RI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i v jedné z komor Parlamentu ČR není specializovaný odbor, který by byl schopen poslancům a senátorům nějakým způsobem vysvětlit a poradit, jak k RIA přistupovat, popřípadě jak ji vytvořit k pozměňovacímu návrhu, který předkládají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4D0209-4A63-4961-BCEA-6787D07508D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EE63A7-01A2-4397-9B6B-4AF9D88A6C4B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ástroj prezentace motivace a evidence k návrhu ze strany vlády při předkládání a zdůvodnění vládních politi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láda v RIA má dávat Parlamentu informaci o tom, jakým způsobem byla RIA zpracována, pro jaké cíle vládní politiky se návrh předkládá, jaké dotčené subjekty byly konzultovány, jak jejich pohled a připomínky byly do návrhu zapracovány (respektive z jakých důvodů nebyly), odhalit zdůvodnění předpokladů a zdrojů dat pro identifikovaný problém, cíle a návrh věcných řešení, dopady, stejně jako informace o těch dopadech a hodnoceních, které z časových důvodů, absence dostupných dat, z absence jednoznačně průkazných vědeckých poznatků v dané oblasti, apod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emohly být systematicky do zdůvodnění promítnu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vše součástí kontrolní funkce Parlamentu vůči vládě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arlament může garantovat nezávislý přístup a globální náhled na problematiku odrážející pohled dotčených subjektů, může tedy mj. vhodným korekčním prvkem  proti někdy příliš úzkému resortnímu přístupu ministerstev ve vládních návrzích politi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některých zemích je ex-post přezkum zákonů (a jejich odůvodnění) zaštítěn právě legislativním orgánem – dle zdrojů OECD např. Austrálie a Kana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0408E8-1CC5-48D9-B033-B77F64D8B71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ípadě poslaneckých a senátorských iniciativ předkládaných opozic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by pak měla existovat podpůr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institucionální struktura pro zpracování RI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 smyslu obdobných požadavků kladených na vládní návrhy v rámci Parlamentu Č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Hodnocení dopadů pozměňovacích návrhů k vládním návrhům zákonů, tj. dovyhodnocení dopadů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 jejich promítnutí ve smyslu očekávané změny dopadů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y měl provádět primárně také předkladatel pozměňovacího návrhu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ale vláda by měla provést vlastní přezkum a srovnání dopadů (potřeba vytvořit procesní podmínky, především časové dané lhůtami projednávání)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estor má znalost data a metodiky, kterou využil při zpracování, která by byla podkladem pro vyhodnocení a stanovisku ministra pro hlasování o pozměňovacích návrzích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arlament by měl systematicky zavazovat vládu k provádění a informování PČR o výsledcích ex post hodnocení účinnosti politik/zákon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v pevně stanovených lhůtách, především u dopadů, které v době přijímání návrhu jsou identifikovány v RIA jako těžko odhadnutelné a s vysokou pravděpodobností rozpětí scénářů vývoje při neznalosti výsledného chování subjektů, respektive při návrhu regulace zcela nových oblastí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205672-18B6-4B3C-8F29-49FC923D68E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936D1C-D36B-48A3-BB92-1DC889C1BF2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8FB4D1-D43D-4245-9DC7-780F1DCB565B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25B8D3-6FC6-4008-8F41-A6A184A596F6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71F450-2F2C-4B63-9814-8AF2C392C10D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0AE874-9F91-4E95-B740-6D367BB77CB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864D61-EDF9-4215-83A1-3691AA5BA79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C69F18-5956-4084-ADF6-B3BF5F68099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A614A1-A2D6-49A0-9B8E-4A3E3DF185F6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 předpisů, u kterých již byla zpracována RIA, je možné ji využít v budoucnosti v procesu přezkum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nastavuje systém a upřesňuje zdroje dat pro budoucí přezkum spolu s nastavením kompetencí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možňuje resortu – gestorovi předpisu nastavit kategorie a plán sběru dat, identifikovat odpovědné útvary pro jejich sběr, respektive pověřit podřízené organizace k jejich systematickému sledování (– tj. vytváří plán činnosti resortů a podřízených organizací!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D53968-C6DF-44F7-803C-6792CC06733E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AAF334-627E-4EFA-9EA5-64D261991031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1C97-EA9F-4BE4-A999-113A9E278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A81C-1342-429B-9C8B-39A273B63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0A97-E851-49EC-A9E2-5E41AAEAC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197B-71F3-48FB-BE3C-B124A166D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D61B0-C033-43E4-B729-5DA39F1D0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2B3C-2A70-4C1C-A799-76119F94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8FAA3-C77C-4C11-A247-555F7F24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BEA0E-564D-49DF-8344-D50C4B25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B8687-B54A-40C0-9AC9-5C0233C9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13FEF-3F8D-42FB-A378-F0F539BD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70557-4161-4A7C-969E-93564AF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4CEA-189B-4D0B-96AD-C626E2E98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BBC66-55D6-4521-A2CE-3C350280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9E2F-103D-4350-AEBA-A23AA09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34496-989F-4654-AF5C-5E12A73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3E6A9-D5CC-4431-9A71-F94DB9A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9C474-DC39-46ED-A7E8-9352CBACC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CC32C-3363-48A3-A5A9-CAE7108B1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DFD96-F240-41FB-8AF3-553DA57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EAA1-A7E2-412F-A8BA-7411BCD6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905F-2B9C-4FC6-A1D7-BD6AF67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8CE13-F75F-4346-918B-85FF0C33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D4EA-4E34-4D2E-9712-7E1691DB62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6AE81-A1B1-473D-8720-1E337CF1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B956-2F90-4465-B923-7B0CD29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49A06-6071-46E3-AE9F-2BFE6FD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05A2C-7C59-4045-B1D2-B57B9A9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E118E-0D49-4518-A003-56E1C5C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2C088-7FB3-4CC0-9D8B-6E78149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CB7B7-472F-46D7-88DE-43A90FC1F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98BAA-F8C9-4441-A59C-9F5E7A8C4D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D3C00-954A-42E3-9F95-40C1EA9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EC2B8-2A49-47EE-8381-94E2198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C741-67EC-40C3-A02B-4B39A9B20A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EB5DD-4797-4A98-8E26-1841AA9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500F2-6CA4-4041-B714-41DDF292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BB80E-CA68-432F-AD31-83FB1B9D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B1E04-E6D9-4966-B86B-F906108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0F418-7327-483A-90E6-2816BFC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82631-F167-49DA-9255-9FFF6067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B521D-0CEE-43CE-B821-181391C8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8CB6E-FF87-4275-80F0-2B1A59C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DAF63-244B-48F0-B32B-A2F6C937D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2734B-5135-419D-A31A-9A0E7753C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E796-5C41-414B-A928-CC83C25FE8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098B9-DCE7-4C43-8273-77717662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237970-5955-43AC-B4F5-F000B177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5D5A4-C5B3-4A85-96AE-BAB1325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D1FB9-B5A7-4C33-805B-43429102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B66CC-176B-44C1-809F-4699A0C9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35174-778E-4B7E-A0D7-EF6DBF7B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F6C43-8E2D-4C02-8214-3F4C475E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46A7F-BA1E-4F76-8475-722C7B8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306CD-3C72-4529-81B2-477A5B20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CE52D-B927-4DFE-800B-3E5FDB4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F597-5B73-4B03-A6E0-6316494BAB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683D0-98E8-4387-AB11-7883C7B3D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4969-EC6C-41CD-B9FB-86CABAC9E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9E5A-7D72-4038-9376-3C64121D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4679-0120-46CB-BE2F-3F35640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98AA-0548-4972-88D8-8B2BBD4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E58B-C6F7-4269-B2F7-9D081557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D978-75F5-4D78-B0F3-7F37B993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535C-EEB6-42EC-BB90-4EC34A9B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1871-9754-4471-B4B4-7221EFC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9F1B-45E1-4A79-B450-B0D03E5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25A7-FAB2-4F58-8D3B-4B096AE699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DA42-F803-4E93-98B2-897446C9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1FF4-EEAB-45E4-A593-602CCCF1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E8CE-D29A-4E57-BC40-42B2B5B66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8444-1FCE-4133-9DEB-93C3490FD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3F12-41F6-4B3A-B0A5-C559D044C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mailto:ria@vlada.cz" TargetMode="External"/><Relationship Id="rId4" Type="http://schemas.openxmlformats.org/officeDocument/2006/relationships/hyperlink" Target="mailto:pecka.ales@vlada.cz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d244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245280"/>
            <a:ext cx="7991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dělení pro koordinaci procesu RIA, Sekce Legislativní rady vlá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78920" y="6237360"/>
            <a:ext cx="574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D74DFA-20B6-4A8C-95B4-C12A925CFF86}" type="slidenum">
              <a:rPr b="1" lang="cs-CZ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448000" cy="288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87280" y="260280"/>
            <a:ext cx="7705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Úřad vlády ČR </a:t>
            </a:r>
            <a:br>
              <a:rPr sz="1300"/>
            </a:b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adresa: 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nábřeží Edvarda Beneše 4, 118 01  Praha 1</a:t>
            </a:r>
            <a:br>
              <a:rPr sz="1300"/>
            </a:b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Tel: +420 224 002 578, e-mail: </a:t>
            </a:r>
            <a:r>
              <a:rPr b="1" lang="cs-CZ" sz="13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ia@vlada.cz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3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ecka.ales@vlada.cz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1052640"/>
            <a:ext cx="8713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9280" y="6093000"/>
            <a:ext cx="8713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229CC-B5A9-46AE-87AD-97C48EB7E1F2}" type="datetime">
              <a: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.07.20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63B3C-1B88-41A4-8C9B-9BE970944B2C}" type="slidenum">
              <a: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86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159E4-F8E2-4B72-9C73-B78E292E41CF}" type="slidenum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8C10C-FC88-463C-8BDC-4BDD74654040}" type="datetime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30.07.20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22424-E714-4156-9769-304E25B93F37}" type="slidenum">
              <a:rPr b="1" lang="cs-CZ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4FD1D-87C2-4D98-9DDD-CA15529D6559}" type="datetime">
              <a: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30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200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28DE1-CD87-4514-A4B0-D939292A6767}" type="datetime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30.07.20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E6F28-E702-44B1-8B8C-4FD5B11953F0}" type="slidenum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266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CB9E-DACA-4FB5-B6CC-B4C76DFE0CA6}" type="datetime">
              <a: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30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C5501-C07C-4FA9-9FD2-817610B91A8E}" type="slidenum">
              <a:rPr b="1" lang="cs-CZ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ecka.ales@vlada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1280" y="1844640"/>
            <a:ext cx="79182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a jeho využití v legislativním procesu </a:t>
            </a:r>
            <a:br>
              <a:rPr sz="3200"/>
            </a:br>
            <a:br>
              <a:rPr sz="2000"/>
            </a:br>
            <a:r>
              <a:rPr b="1" i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Aleš Pecka</a:t>
            </a:r>
            <a:br>
              <a:rPr sz="2400"/>
            </a:br>
            <a:r>
              <a:rPr b="1" i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Úřad vlády ČR</a:t>
            </a:r>
            <a:br>
              <a:rPr sz="2400"/>
            </a:br>
            <a:br>
              <a:rPr sz="2400"/>
            </a:br>
            <a:r>
              <a:rPr b="1" i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21. dubna 2015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v rámci semináře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„Nabídka na spolupráci při odborném posouzení dopadů regulace (RIA) </a:t>
            </a: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pro obě komory Parlamentu České republiky“</a:t>
            </a: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Ústavně právní výbor PS PČR</a:t>
            </a:r>
            <a:br>
              <a:rPr sz="1600"/>
            </a:b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výstupem procesu RIA na úrovni vlád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98900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Závěrečná zpráva R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Shrnuje výsledky provedené 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Je stanovena šablona pro závěrečnou zprávu RIA včetně Shrnutí pro návrhy zákonů (aktualizace od 1.2.201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 řešení více problémů je předkladatel oprávněn přiměřeně upravit strukturu provedené 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Závěrečná zpráva RIA musí být v souladu s návrhem právního předpis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, že dojde před předložením návrhu právního předpisu vládě ke změnám, které mají věcné dopady, je nutné dopracovat v tomto ohledu RIA včetně závěrečné zprávy před jednáním vlád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, kdy dojde ke změnám v návrhu právního předpisu na jednání vlády, závěrečná zpráva se již nedopracovává, tato skutečnost se uvede pouze v důvodové právě, která je předkládána do Parlamentu Č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na úrovni vlády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Na úrovni vlády předložen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85 návrhů právních předpisů (VZZ, návrhy zákonů a návrhy nařízení)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– z toh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10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se zpracovanou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Z toho návrhy zákonů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19 na úrovni vlády (117+2 NÚ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V rámci poslaneckých a senátních iniciativ předloženo v Parlamentu ČR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70 návrhů zákon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Celkově tedy předloženo 189 návrhů zákonů včetně novel existujících předpis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Na úrovni vlády předloženo dále 220 návrhů podzákonných předpisů (61 nařízení vlády a 159 návrhů vyhláše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očty návrhů právních předpisů v ČR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79280" y="2060640"/>
          <a:ext cx="8715240" cy="3817440"/>
        </p:xfrm>
        <a:graphic>
          <a:graphicData uri="http://schemas.openxmlformats.org/drawingml/2006/table">
            <a:tbl>
              <a:tblPr/>
              <a:tblGrid>
                <a:gridCol w="5832000"/>
                <a:gridCol w="2883240"/>
              </a:tblGrid>
              <a:tr h="3412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i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3776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zákonů předložených na půdě Parlamentu ČR (bez RIA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48312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primárních (zákonných) právních předpisů na úrovni vlády (návrhy zákonů - NZ 117 a návrhy ústavních zákonů - NÚZ 2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2714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zákonů předložených v ČR v r. 2014 celkem (119+70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3780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za rok 2014 celkem (NZ 117, NÚZ 2, VZZ 5, NNV 6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2718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bez zpracované RIA (NZ, N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3776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(NZ, VZZ, NV) se zpracovanou 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732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z toho Věcné záměry zákonů (VZZ) – RIA povinná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718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toho vládní návrhy posuzované Komisí RIA v r. 2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podzákonných právních předpisů na úrovni vlád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toho návrhy nařízení vlády (N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vyhláše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roč institucionální přezkum kvality RI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Garance kvality metodiky a vnitřní koherence evidence zpracované v RIA resorty při předkládání návrhu rozhodnutí vlád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V rámci Legislativní rady vlády vykonává specializovaná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Komise 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Ustavena v listopadu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3A3BD9-A5B8-4392-8129-C4373CB99A3B}" type="slidenum">
              <a:rPr b="1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189000"/>
            <a:ext cx="8437680" cy="619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780000" y="1413000"/>
            <a:ext cx="1895400" cy="993600"/>
          </a:xfrm>
          <a:prstGeom prst="wedgeRectCallout">
            <a:avLst>
              <a:gd name="adj1" fmla="val 18675"/>
              <a:gd name="adj2" fmla="val -110703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RIA navrhuje, u kterých legislativních návrhů má být provedeno hodnocení dopadů regulace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80000" y="2565360"/>
            <a:ext cx="1895400" cy="1295280"/>
          </a:xfrm>
          <a:prstGeom prst="wedgeRectCallout">
            <a:avLst>
              <a:gd name="adj1" fmla="val 105944"/>
              <a:gd name="adj2" fmla="val -3064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poskytuje konzultace zpracovatelům RIA k metodickým otázkám ve spolupráci s oddělením koordinace procesu RIA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4076640"/>
            <a:ext cx="1944360" cy="1008000"/>
          </a:xfrm>
          <a:prstGeom prst="wedgeRectCallout">
            <a:avLst>
              <a:gd name="adj1" fmla="val 16694"/>
              <a:gd name="adj2" fmla="val 104958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přezkoumává kvalitu RIA po věcné stránce; pokud předložená Závěrečná zpráva RIA není akceptovatelná, je vyžadováno její dopracování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Činnost Komise RIA v r. 2014 v čísle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Na úrovni vlády předloženo v r. 2014 185 návrhů předpisů – z toh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110 se zpracovanou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Komise RIA projednala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65 závěrečných zpráv RIA k návrhům zákonů, věcných záměrů zákonů a návrhům nařízení vlá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u 24 návrhů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37% ze všech stanovisek) vydala napoprvé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kladné stanovisk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u zbývajících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41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63%) vydala stanovisk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s žádostí o dopracování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s různou mírou závažnost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pouze u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8 návrhů nedoporučila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Komise po projednání či dopracování schválení závěrečné zprávy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E2A0A6-304E-413D-9E75-F30067F7D0C7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58920" y="1197000"/>
          <a:ext cx="6322680" cy="4758840"/>
        </p:xfrm>
        <a:graphic>
          <a:graphicData uri="http://schemas.openxmlformats.org/drawingml/2006/table">
            <a:tbl>
              <a:tblPr/>
              <a:tblGrid>
                <a:gridCol w="939600"/>
                <a:gridCol w="938880"/>
                <a:gridCol w="955800"/>
                <a:gridCol w="871560"/>
                <a:gridCol w="873720"/>
                <a:gridCol w="871560"/>
                <a:gridCol w="871560"/>
              </a:tblGrid>
              <a:tr h="512640"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kladat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ty návrhů předložených s RIA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projednaných v Komisi RIA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ním stanoviske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gridSpan="3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dným stanoviske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připomíne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opracování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přepracování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404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54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S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p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ŠM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404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ŽP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- ÚOHS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V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- SÚJB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Graficky podíl výsledných stanovisek Komise RIA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672BF7-1B1D-4D58-9C73-4738CBCC4709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5905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Srovnání výsledných stanovisek za roky 2012, 2013 a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4E45A5-8835-43A5-8793-2679CCEB92D6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576440" y="2060640"/>
            <a:ext cx="59198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v legislativním procesu: jaké máme dosavadní poznatky o využití RIA v PČ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Z externího přezkumu procesu RIA pro ÚV r. 2013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yplynulo, že v rámci legislativní praxe Parlamentu závěrečné zprávy RIA spíše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ejsou využívány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říčiny? Vyplývá někdy jednak z faktické neznalosti zákonodárců, ale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dáno také počty zákonů a počty pozměňovacích návrhů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k těmto zákonům, které prochází Parlamentem Č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 daných lhůtách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, které mají obě komory Parlamentu pro projednání není pro většinu poslanců a senátorů ani reálné se RIA alespoň v nějaké míře zabývat (a to ani ve výborech, natož na plenárních zasedáních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Mj. proto bylo ze strany RIA poslanců a senátorů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oláno po stručném shrnutí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dopadů vybrané varianty, které by pro poslance a senátory bylo snáze pochopitelné, než celý dlouhý a často relativně komplexní text RIA.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Ani v jedné z komor Parlamentu ČR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ení dále specializovaný odbor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, který by byl schopen poslancům a senátorům nějakým způsobem vysvětlit a poradit, jak k RIA přistupovat, popřípadě jak ji vytvořit k pozměňovacímu návrhu, který předkládají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Obsah přednášk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to R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Institucionální zakotvení procesu RIA na úrovni vlá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na úrovni vlády v čísle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Důvody pro posílení procesu RIA v PČ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Zlepšení procesu RIA v PČR: možnost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nit for Coordination of RIA Process, Government Legislative Council Se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95DD18-B59C-4A0C-ACDF-A479A6574443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RIA a využití ze strany PČR – důvod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Nástroj prezentace motivace a evidence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k návrhu předpisů ze strany vlády při předkládání a zdůvodnění vládních politi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Může být nahlíženo jako součást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kontrolní funkce parlamentu vůči vládě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Vláda v RIA má parlament informovat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, jakým způsobem byla RIA zpracována, pro jaké cíle vládní politiky se návrh předkládá, jaké dotčené subjekty byly konzultovány, jak jejich pohled a připomínky byly do návrhu zapracovány (respektive z jakých důvodů nebyly), stejně jako informace o těch dopadech a hodnoceních, které z časových důvodů, absence dostupných dat, z absence jednoznačně průkazných vědeckých poznatků v dané oblasti, apod.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nemohly být systematicky do zdůvodnění promítnu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Parlament může garantovat nezávislý přístup a globální náhled na problematiku odrážející mj. pohled dotčených subjektů a může být korigujícím prvkem  proti někdy příliš úzkému resortnímu přístupu ministerstev ve vládních návrzích politik a regul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V některých zemích je ex-post přezkum zákonů (a jejich odůvodnění) zaštítěn právě legislativním orgánem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Jak zlepšit proces RIA a jeho podporu v PČ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1773360"/>
            <a:ext cx="8713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případě poslaneckých a senátorských iniciativ předkládaných opozicí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by pak měla existovat podpůrná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institucionální struktura pro zpracování RIA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e smyslu obdobných požadavků kladených na vládní návrhy v rámci Parlamentu Č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Hodnocení dopadů pozměňovacích návrhů k vládním návrhům zákonů, tj. dovyhodnocení dopadů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a jejich promítnutí ve smyslu očekávané změny dopadů,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by měl provádět primárně také předkladatel pozměňovacího návrhu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, ale vláda by měla provést vlastní přezkum a srovnání dopadů (potřeba vytvořit procesní podmínky, především časové dané lhůtami projednávání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Parlament by měl systematicky zavazovat vládu k provádění a informování PČR o výsledcích ex post hodnocení účinnosti politik/zákonů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v pevně stanovených lhůtách, především u dopadů, které v době přijímání návrhu jsou identifikovány v RIA jako těžko odhadnutelné a s vysokou pravděpodobností rozpětí scénářů vývoje při neznalosti výsledného chování subjektů, respektive při návrhu regulace zcela nových oblastí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Výhled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Možná metodická pomoc ze strany útvarů Sekce LRV ÚV pro nastavení procesů RIA v PČ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Zprostředkování zahraniční zkušenosti z členských zemí OECD i aktuálních debat nad problematikou provádění hodnocení dopadů i na úrovni EU mezi Evropskou komisí, Radou EU a Evropským parlamen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Otázky do diskuse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"/>
              </a:rPr>
              <a:t>Jak zlepšit strukturu a prezentaci závěrečných zpráv RIA v rámci důvodových zpráv, aby byly aktivně využívány v Parlamentu jako součást přezkumu návrhu a jeho zdůvodnění ze strany zákonodárců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"/>
              </a:rPr>
              <a:t>Jaké jsou procesní možnosti, aby důvodová zpráva z hlediska hodnocení dopadů měla svou vypovídací hodnotu i pro projednávání a formulaci pozměňovacích návrhů a odrážela znalost dopadů pozměňovacích návrhů před finálním schvalování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4360" y="14130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d244d"/>
                </a:solidFill>
                <a:latin typeface="Arial"/>
                <a:ea typeface="Microsoft YaHei"/>
              </a:rPr>
              <a:t>Děkuji za pozornos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3284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Aleš Pec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pov. vedoucí oddělení pro koordinaci procesu RI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odbor hodnocení dopadů regulace, Úřad vlá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e-mail: </a:t>
            </a:r>
            <a:r>
              <a:rPr b="1" lang="cs-CZ" sz="20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pecka.ales@vlada.c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Tel: +420 224 002 57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nit for Coordination of RIA Process, Government Legislative Council Se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85C24C-8997-43F3-B85F-A4C03D57B3BB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to RI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Dle oficiální definice je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hodnocení dopadů regulace (dále jen „RIA“ z angl. Regulatory Impact Assessment)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soustavou analytických metod směřujících k systematickému hodnocení očekávaných dopadů navrhovaných politik a právních předpisů, kterými jsou implementován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to znamená, k čemu může být RIA využit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zdůvodnění návrhů politik na základě podložené evidence a zdůvodnění – posílení transparentnosti rozhodování a zkvalitnění leg. postup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identifikaci zastaralé legislativy (viz ex post 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prevenci zbytečné regulace a pojistka proti „legislativní inflaci“ (viz ex ante 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Tvorba politik opřená o konzultace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Identifikace preferencí a variant řešení ze strany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Podpůrné argumenty pro předkladatele a identifikace potenciálních kritických výhrad ze strany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Analýza nákladů a přínosů navrhovaných variant řešení – prezentace úvah a zvoleného řešení pro členy Parlamen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632EF5-3A2F-4D65-A1A6-8ED063109969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RIA v rozhodovacím procesu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Jedná se o systematický přístup za účelem kritického vyhodnocení pozitivních a negativních účinků navržených regulací a nelegislativních opatření i v kontextu dopadů na stávající regula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Hovoříme také o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regulatorním cyk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Jeho součástí je hodnocení nových politik (ex ante RIA) i stávajících politik a regulace (ex post RIA) – viz následující sché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ECE9D1-9617-4C09-8B03-1E81621762B6}" type="slidenum">
              <a:rPr b="1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contrast="18000"/>
            <a:alphaModFix amt="7000"/>
          </a:blip>
          <a:stretch/>
        </p:blipFill>
        <p:spPr>
          <a:xfrm>
            <a:off x="324000" y="260280"/>
            <a:ext cx="8437320" cy="619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116000" y="4005360"/>
            <a:ext cx="1944720" cy="934920"/>
          </a:xfrm>
          <a:prstGeom prst="flowChartProcess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260280"/>
            <a:ext cx="2592360" cy="2592360"/>
          </a:xfrm>
          <a:prstGeom prst="flowChartProcess">
            <a:avLst/>
          </a:prstGeom>
          <a:solidFill>
            <a:srgbClr val="800080">
              <a:alpha val="3000"/>
            </a:srgbClr>
          </a:solidFill>
          <a:ln cap="sq"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800080"/>
                </a:solidFill>
                <a:latin typeface="Arial"/>
                <a:ea typeface="Arial"/>
              </a:rPr>
              <a:t>Ex post 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628640"/>
            <a:ext cx="4248000" cy="5040360"/>
          </a:xfrm>
          <a:prstGeom prst="flowChartProcess">
            <a:avLst/>
          </a:prstGeom>
          <a:noFill/>
          <a:ln cap="sq"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  <a:ea typeface="Arial"/>
              </a:rPr>
              <a:t>Ex ante 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590280" y="138816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800080">
              <a:alpha val="42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2833560" y="3077640"/>
            <a:ext cx="1390680" cy="1082880"/>
          </a:xfrm>
          <a:custGeom>
            <a:avLst/>
            <a:gdLst>
              <a:gd name="textAreaLeft" fmla="*/ 800280 w 1390680"/>
              <a:gd name="textAreaRight" fmla="*/ 1173600 w 1390680"/>
              <a:gd name="textAreaTop" fmla="*/ 145800 h 1082880"/>
              <a:gd name="textAreaBottom" fmla="*/ 463680 h 1082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>
              <a:alpha val="42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2924280"/>
            <a:ext cx="648000" cy="108108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ff0000">
              <a:alpha val="33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3720" y="1197000"/>
            <a:ext cx="8713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řezkum účinnosti právních předpisů – Proč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 u="sng">
                <a:solidFill>
                  <a:srgbClr val="0d244d"/>
                </a:solidFill>
                <a:uFillTx/>
                <a:latin typeface="Arial"/>
                <a:ea typeface="Arial Unicode MS"/>
              </a:rPr>
              <a:t>Proč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V současnosti chybí systematický sběr podkladů ze strany vlády pro vyhodnocování relevantnosti a kvality právních předpisů (v prax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 u="sng">
                <a:solidFill>
                  <a:srgbClr val="0d244d"/>
                </a:solidFill>
                <a:uFillTx/>
                <a:latin typeface="Arial"/>
                <a:ea typeface="Arial Unicode MS"/>
              </a:rPr>
              <a:t>Jak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ex-ante RIA: využití v procesu ex-post evaluace právní regulace, požadavky již dnes součástí metodiky Obecných zásad 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indikátory: nastaveny předkladatelem, tj. vládou, na jím definované cíle návrhu právního předpisu (v ex ante RIA) – jsou podkladem pro systematické provedení přezkumu, způsobu implementace a případné korekce zjištěných dopadů dle skutečnosti v prax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následný ex-post přezkum tedy může odhalit nedostatky v nastavení vládní politiky a přinést podklady pro vhodný návrh a odůvodnění její korek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v ex post RIA musí ale být promítnut dopad pozměňovacích návrhů přijatých v Parlamentu ČR (!) – fakticky totiž mění původní dopady předpokládané vládou ve vládních návrzí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48BB94-551F-44EE-9D07-5AD7E83CF741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Přezkum právních předpisů: Využití RI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U předpisů, u kterých již byla zpracována R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RIA nastavuje matici hodnot a indikátorů, které lze pro vyhodnocení účinnosti sledova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Umožňuje resortu – gestorovi předpisu nastavit kategorie a plán sběru dat, identifikovat odpovědné útvary pro jejich sběr, respektive pověřit podřízené organizace systematickým sledování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Předpokladem jsou ale pečlivě nastavené ukazatele („viz indikátory“) v ex-ante RIA a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jich případná aktualizace v případě přijetí zásadních pozměňovacích návrhů v průběhu legislativního procesu a na jeho konci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– (Parla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dním z měřítek hodnocení kvality zpracované RIA z hlediska využitelnosti pro budoucí přezkum pro návrhy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předkládané k rozhodnutí vlády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 posouzení ze strany Komise R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Institucionální zabezpečení RIA na úrovni vlád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Ústřední správní úřa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Odpovědnost za provádění RIA a kvalitu zpracování závěrečné zprávy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racovní komise Legislativní rady vlády pro hodnocení dopadů regul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osuzování kvality provedených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rovádění konzultací k RIA v průběhu jejího zpracování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a základě přehledu dopadů doporučuje zpracování nebo nezpracování RIA do Plánu legislativních prací vlá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Úřad vlá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oskytuje metodickou pomoc při provádění RIA a koordinaci celého procesu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Zpracovává věcné podklady pro pracovní komisi pro hodnocení dopadů regul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2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7:19:07Z</dcterms:created>
  <dc:creator>moje</dc:creator>
  <dc:description/>
  <dc:language>en-US</dc:language>
  <cp:lastModifiedBy>Pecka Aleš</cp:lastModifiedBy>
  <cp:lastPrinted>2015-02-27T11:52:07Z</cp:lastPrinted>
  <dcterms:modified xsi:type="dcterms:W3CDTF">2015-04-20T13:18:48Z</dcterms:modified>
  <cp:revision>330</cp:revision>
  <dc:subject/>
  <dc:title>Intranet Úřadu vlády  České republiky</dc:title>
</cp:coreProperties>
</file>