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move the slide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ftr" idx="2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 type="sldNum" idx="2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937DA2-3673-4900-A3BB-C6B3107E96A8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19DEA3-D0C0-4058-A4D1-F2FE4BAC55F1}" type="slidenum">
              <a:rPr b="0" lang="cs-CZ" sz="1200" spc="-1" strike="noStrike">
                <a:solidFill>
                  <a:srgbClr val="003d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A21966-9648-4404-A54D-6620A0CDF9A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CD5E-7A0F-4BB4-B748-5D9770420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144E-FDB8-4D8A-8A8F-B44E1815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4B9-1128-4EF3-8528-795A1F46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27953-6B69-4981-9663-6D1774B25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DA49-C377-43C9-B3F8-765F828D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0C60-4997-470C-AF11-D8925E74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2146-32D1-42E7-AE94-76C453EF0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B3E4D-0D84-4193-8BB0-CBCBC259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7CAA7-40E2-4F97-A143-EB9FA430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6BE7-7953-452F-854F-469FDFE1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DCF3E-F8F8-4D8F-9A3A-7FA7CBD4B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4B2-CAEB-4821-810A-A10D3478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F82B-4706-4AA5-AD79-2F659B63A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FAC4-4EF7-4E0E-AEF5-E3BE6E980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311E-EB6E-4D36-9DF6-4A139701F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8E9E-2AC5-43F4-A89E-27552C4DF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E4D9F-BD2B-44C3-A391-28ABE82F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645ED-7A06-472E-A84E-34430E4B1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06CDD-CA51-4492-ABC5-2D9D253D5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8E7D7-56F7-48FF-847D-A84DD4D88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9C28-0E0C-4AFD-883C-54B2AE46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E6B95-087F-4CED-9C8E-5D14C74B0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C473-F4C0-4071-A539-6D1554E2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4823D-6AA0-4608-8D3F-3313CBB0E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DB409-5865-486E-ACF7-E903B5828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970D6-25D0-4668-94DF-35137020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801CF-2380-42A0-B9B3-9F2155E9B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78E42-44B7-4A8B-BC4A-658E8E48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4B75D-1FF8-4C41-9F6A-90E64D5DC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EF12C-E0E8-43BD-9FE7-36E1182C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CF936-9365-4A6F-81E9-A8FB94A36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0E9A5-61DE-445E-A8B0-807837478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702AE-74CE-4FB0-A6A3-6F39866BC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F4F-D253-4B00-ABF2-A3D61C59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0E818-0D9B-460D-AAB2-D2672ED27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40221-E4F4-4BDD-8535-F7F28C2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1FED5-2C97-47BA-B6D9-C0023427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47185-6C71-4CCC-A2B0-2238DD32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8CB73-0E16-44FD-95B0-9D91D1032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67EDCB-6838-423E-896D-EBE77F963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CCB48-1D44-4B36-8BB8-1A2B86E3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874DA-DB0E-48D2-8379-21B930C1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9C502-71FD-4434-913C-A91DECB1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C0B166-CA3D-494C-94DB-36FFA98CB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F8DD-3322-4101-AA3B-975945950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30D86-A1C1-4859-9972-6684A594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D0428-D8F8-4892-AC5A-FD526494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FFE6-D30E-40A7-95C9-367A71EB7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A3260-58CB-4A42-9768-B3244F43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5FB3D5-2BDB-47FD-855A-72B41633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D518-E34A-41B1-A579-6CB6F4FD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6C5C27-2788-4CDA-A6D8-2CCAB17A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0AE31-3C31-47D5-9334-CAB4A635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3FFBF-C801-40FB-B81E-0CE00D3B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9C5207-BC95-42E2-8960-4C6C8221F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A43B-A383-4EAE-868F-182A5B1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62D73-5169-4A19-B804-8C0B3B35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987B7-40C0-4B59-96F5-190244FC3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41C8C-3C90-446A-ABE1-E2CA83693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0C4608-0206-4380-9EFE-D656C59D5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E2575-8819-44D2-91EC-D60F7B689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652C4-2E14-4C2D-8701-E5DF3F5D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1233360" y="0"/>
            <a:ext cx="6794640" cy="48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A27A8-9D23-49AD-BF0E-6FD2B5703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4AEE-9740-4DE2-A323-C0D8F136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89236-474D-4A53-8B0D-4F277DAA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78E6A5-71C4-422A-8872-DAF8BD31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18A4-2057-4E22-9DEA-0862350FC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FFD8C-BE13-4B24-B1BE-152A6464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3D423-DFA9-4D33-AA2C-6405982C6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53088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28400" y="160020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123336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53088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28400" y="3964320"/>
            <a:ext cx="2187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4FE3A-1AB3-426B-B00A-CF089E6F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5280" y="396432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24CE-2607-44E2-916A-A40D75FC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3336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5280" y="1600200"/>
            <a:ext cx="3315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33360" y="3964320"/>
            <a:ext cx="679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9D514-F193-45A2-9F83-BF9CB483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3470-8C39-4BA3-95D8-2A7BE0428007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0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F6049-F208-4C6E-AC56-579D96B0779B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57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9"/>
          <p:cNvSpPr/>
          <p:nvPr/>
        </p:nvSpPr>
        <p:spPr>
          <a:xfrm>
            <a:off x="3240" y="0"/>
            <a:ext cx="8024760" cy="107964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233360" y="624492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2914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3d61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146A-9018-4F21-B104-602978A43A00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8628120" y="558720"/>
            <a:ext cx="522360" cy="522360"/>
          </a:xfrm>
          <a:prstGeom prst="rect">
            <a:avLst/>
          </a:prstGeom>
          <a:solidFill>
            <a:srgbClr val="d3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8621640" y="0"/>
            <a:ext cx="522360" cy="522360"/>
          </a:xfrm>
          <a:prstGeom prst="rect">
            <a:avLst/>
          </a:prstGeom>
          <a:solidFill>
            <a:srgbClr val="c2cd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8066160" y="558720"/>
            <a:ext cx="522360" cy="52236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8066160" y="0"/>
            <a:ext cx="522360" cy="522360"/>
          </a:xfrm>
          <a:prstGeom prst="rect">
            <a:avLst/>
          </a:prstGeom>
          <a:solidFill>
            <a:srgbClr val="fdbb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04" name="Picture 15" descr="pp_podtisk"/>
          <p:cNvPicPr/>
          <p:nvPr/>
        </p:nvPicPr>
        <p:blipFill>
          <a:blip r:embed="rId2"/>
          <a:stretch/>
        </p:blipFill>
        <p:spPr>
          <a:xfrm>
            <a:off x="0" y="1341360"/>
            <a:ext cx="892080" cy="551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42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C6D2-C9E2-43B1-9D2C-77190F64B780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186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dt" idx="13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ftr" idx="14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sldNum" idx="15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FA81-B73F-4C98-AD8C-31B21329DDF4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8"/>
          <p:cNvSpPr/>
          <p:nvPr/>
        </p:nvSpPr>
        <p:spPr>
          <a:xfrm>
            <a:off x="-12600" y="1968480"/>
            <a:ext cx="9156600" cy="4889520"/>
          </a:xfrm>
          <a:prstGeom prst="rect">
            <a:avLst/>
          </a:prstGeom>
          <a:solidFill>
            <a:srgbClr val="003d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pic>
        <p:nvPicPr>
          <p:cNvPr id="230" name="Picture 9" descr="logo_mzcr"/>
          <p:cNvPicPr/>
          <p:nvPr/>
        </p:nvPicPr>
        <p:blipFill>
          <a:blip r:embed="rId2"/>
          <a:stretch/>
        </p:blipFill>
        <p:spPr>
          <a:xfrm>
            <a:off x="647640" y="682560"/>
            <a:ext cx="6737400" cy="593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pp_titul_podtisk"/>
          <p:cNvPicPr/>
          <p:nvPr/>
        </p:nvPicPr>
        <p:blipFill>
          <a:blip r:embed="rId3"/>
          <a:stretch/>
        </p:blipFill>
        <p:spPr>
          <a:xfrm>
            <a:off x="0" y="1989000"/>
            <a:ext cx="812880" cy="486900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GillSans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Click to edit the outline text format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con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Third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our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4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Fif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5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ix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6"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d61"/>
                </a:solidFill>
                <a:latin typeface="GillSans"/>
              </a:rPr>
              <a:t>Seventh Outline Level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1220760" y="6244920"/>
            <a:ext cx="1370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91600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6207120" y="6244920"/>
            <a:ext cx="1835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Gill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F5022-386C-40AD-9F57-B157FAE76374}" type="slidenum">
              <a:rPr b="0" lang="cs-CZ" sz="1200" spc="-1" strike="noStrike">
                <a:solidFill>
                  <a:srgbClr val="ffffff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mailto:jana.pelcova@mzcr.cz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349360" y="2492280"/>
            <a:ext cx="679464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Návrh zákona, který má nahradit zákon 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 č. 96/2004 Sb.,</a:t>
            </a:r>
            <a:br>
              <a:rPr sz="3200"/>
            </a:br>
            <a:r>
              <a:rPr b="1" lang="cs-CZ" sz="3200" spc="-1" strike="noStrike">
                <a:solidFill>
                  <a:srgbClr val="ffffff"/>
                </a:solidFill>
                <a:latin typeface="GillSans"/>
              </a:rPr>
              <a:t>o nelékařských zdravotnických povoláních</a:t>
            </a: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2000"/>
            </a:br>
            <a:br>
              <a:rPr sz="2000"/>
            </a:b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pic>
        <p:nvPicPr>
          <p:cNvPr id="281" name="Picture 6" descr="ANd9GcTBI4F3c5ESRPgMaAU1m-l0pmg-WgodUhiVclc58UK_Yt03LCcLcHnMkCX0"/>
          <p:cNvPicPr/>
          <p:nvPr/>
        </p:nvPicPr>
        <p:blipFill>
          <a:blip r:embed="rId1"/>
          <a:stretch/>
        </p:blipFill>
        <p:spPr>
          <a:xfrm>
            <a:off x="611280" y="3284640"/>
            <a:ext cx="1780920" cy="26175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1187280" y="1341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magisterský stupeň vzděl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ově je v zákoně zmíněna možnost rozšíření odborné způsobilosti pro bakalářské zdravotnické obory pro oblasti se zaměřením na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Gill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edagogiku, vědu a výzkum ve zdravotnictv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GillSan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kročilé role v klinické praxi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 možností </a:t>
            </a:r>
            <a:r>
              <a:rPr b="1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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kompetenc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bude možné navýšit absolventům s bakalářským stupněm vzdělání vědomosti a dovednosti v určitých oblastech -  např. v péči o seniory, pacienty v onkologii, paliativní péči. Tyto návrhy jsou porovnatelné s již fungujícími systémy v zahraničí (pokročilá praxe – Nurses in Advanced Roles)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celoživotního profes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 celoživotním vzdělává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Nyní používaný kreditní systém se navrhuje nahradit stanovením určitéh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minimálního počtu hodin celoživotního profesního vzdělávání v kalendářním roce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, a to diferencovaně podle stupně vzdělání oboru zdravotnického povolání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 povolání Mgr., Bc., VOŠ (současná registrovaná povolání)  – 12 hodin ročně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 povolání  středních škol s maturitou – 6 hodin ročně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statní - AKK - určí zaměstnavatel 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2/3 lze absolvovat u svého zaměstnavatele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specializač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Podmínkou pro zařazení do specializace –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rokázání 2 let  výkonu povolání v oboru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testační zkoušk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ze vykonat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ejpozději do 5 let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 okamžiku, kdy uchazeč splnil všechny podmínky VP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testační zkoušku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ze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opakovat nejdříve za 5 měsíců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e dne neúspěšně vykonané zkoušky (dosud vyhláškou stanoveno nejdříve po uplynutí 12 měs.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Specializovanou způsobilost nelze získat navazujícím mgr. studiem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00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Upuštění od průkazu odbornosti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 -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</a:t>
            </a:r>
            <a:r>
              <a:rPr b="0" lang="cs-CZ" sz="1600" spc="-1" strike="noStrike">
                <a:solidFill>
                  <a:srgbClr val="003d61"/>
                </a:solidFill>
                <a:latin typeface="GillSans"/>
              </a:rPr>
              <a:t> důvodu neúčelné duplicitní administrace, průkaz pozbyl účelnosti.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. Oblast celoživotního profesního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 poj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certifikovaný kurz </a:t>
            </a:r>
            <a:r>
              <a:rPr b="1" lang="cs-CZ" sz="1800" spc="-1" strike="noStrike">
                <a:solidFill>
                  <a:srgbClr val="c00000"/>
                </a:solidFill>
                <a:latin typeface="GillSans"/>
              </a:rPr>
              <a:t>	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2" marL="1150920" indent="-228600">
              <a:spcBef>
                <a:spcPts val="451"/>
              </a:spcBef>
              <a:buClr>
                <a:srgbClr val="003d61"/>
              </a:buClr>
              <a:buFont typeface="Symbol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kreditovaný funkční kurz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kterým se získá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zvláštní odborná způsobilos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ůvod: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nový název lépe vystihuje povahu tohoto kurzu, který vlastně ani nepodléhá certifikaci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- odstranit určité matení pojmů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3 Oblast akreditac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znik oborových akreditačních komisí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podle příbuznosti oborů) - dnes jedna komise,  vznik rady akreditačních komis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šíření pravomocí akreditační komis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apř. kontrolní činnost akreditovaných zařízení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jednodušení akreditačního řízen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ozšíření možností neudělení akreditací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ové nastavení kontrolních a sankčních mechanismů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plnění mezer v právní úpravě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1280" indent="-341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apř. nyní absentují ustanovení o zániku akreditace či ohledně možnosti jejího převodu na jiný právní subjekt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4 Oblast registrace zdravotnických pracovníků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 zdravotnických pracovníků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bude ukotven s vazbou na zákon č. 372/2011 Sb. – novela zákona o zdravotních službá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Registrace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regulovaných zdravotnických povolání podle směrnice o uznávání odborných kvalifikací a dále některá povolání, která poskytují přímou péči o pacienta  a je potřebný elektronický podpis či ověření totožnosti zdravotnického pracovníka – elektronický vstup, sloučení všech registrů na jednotnou platformu – registr poskytovatelů, registr zdravotnických pracovníků, návaznost na registry  osob, registry chorob….e Health – zdravotnická dokumentac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5 Oblast uznávání způsobilosti získané v jiném členském státě EU nebo mimo EU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implementace Směrnice Evropského parlamentu a Rady 2013/55/EU ze dne 20. listopadu 2013, kterou se mění směrnice 2005/36/ES o uznávání odborných kvalifikací 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60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3d61"/>
                </a:solidFill>
                <a:latin typeface="GillSans"/>
              </a:rPr>
              <a:t>lhůta pro implementaci citované směrnice byla určena na dobu dvou let, tj. 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do 18. ledna 2016</a:t>
            </a:r>
            <a:endParaRPr b="1" lang="en-US" sz="24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6 Oblast správních deliktů, formální uspořádání  zákona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Jednoznačnější vymezení a zpřísnění systému sankc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ukládaných za nedodržení povinností vyplývajících ze zákon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Zvýšení přehlednosti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edle úprav věcného charakteru se na základě změny ve formálním uspořádání zvýšila přehlednos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snížení počtu §§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část : § 5 až § 43  - předchozí vzdělání všech povolání je uvedeno v příloze zákona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2858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Prováděcí předpisy k novému zákonu 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920" y="1484280"/>
            <a:ext cx="7850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minimálních požadavcích na vzdělávací programy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87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- vyhláška č. 39/2005 Sb.)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činnostech + metodický pokyn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vyhláška č. 55/2011 Sb. 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specializacích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(nyní NV č. 31/2010 Sb.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akreditovaných funkčních kurzech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Vyhláška o akreditovaných kvalifikačních kurzech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Vyhláška o celoživotním profesním vzdělávání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yhláška o </a:t>
            </a:r>
            <a:r>
              <a:rPr b="1" lang="cs-CZ" sz="2000" spc="-1" strike="noStrike">
                <a:solidFill>
                  <a:srgbClr val="003d61"/>
                </a:solidFill>
                <a:latin typeface="Arial"/>
              </a:rPr>
              <a:t>aprobační zkoušc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Nebude upraveno zákonem </a:t>
            </a: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(původně navrženo)  </a:t>
            </a: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1123560"/>
            <a:ext cx="7850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Podmínky k výkonu řídící funkce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 – ošetřovatelství a ostatních zdravotnických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ustanovení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funkce hlavní sestry ČR,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stanoveny podmínky pr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edoucí funkce ve zdravotnictv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dborná způsobilost (VŠ/VOŠ)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zdělání v managementu (CK/ spec./ VŠ)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3 roky praxe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39996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značení a podmínky pro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edení ošetřovatelských tým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náměstek pro oš. péči /hlavní sestra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gr. vzdělán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10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let praxe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vrchní sestr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Bc./VOŠ + management+ 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5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roky praxe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2" marL="808200">
              <a:lnSpc>
                <a:spcPct val="90000"/>
              </a:lnSpc>
              <a:spcBef>
                <a:spcPts val="499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staniční sestra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 –</a:t>
            </a:r>
            <a:r>
              <a:rPr b="0" lang="cs-CZ" sz="2000" spc="-1" strike="noStrike">
                <a:solidFill>
                  <a:srgbClr val="003d61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anagement/specializace  + 3 roky praxe.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GillSans"/>
              </a:rPr>
              <a:t>Nové termíny předložení návrhu novely a nového zákona – 2. fáze 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258920" y="1599840"/>
            <a:ext cx="67946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3d61"/>
              </a:buClr>
              <a:buFont typeface="GillSan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Listopad 2014 – transpozice novely směrnice 2005/36/ES do novela zákona 96/2004 Sb.– gestorem je MŠMT – účinnost od ledna 2016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2)   Listopad 2015 – předložení návrhu nového zákona 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	</a:t>
            </a:r>
            <a:r>
              <a:rPr b="1" lang="cs-CZ" sz="2000" spc="-1" strike="noStrike">
                <a:solidFill>
                  <a:srgbClr val="003d61"/>
                </a:solidFill>
                <a:latin typeface="GillSans"/>
              </a:rPr>
              <a:t>do Vlády, účinnost od ledna 2017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Důvody zpoždění předložení zákona: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ové vedení MZ – nové schválení  tezí zákona na PV v dubnu a listopadu 2014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slanecká iniciativa – kulaté stoly s odbornou veřejností – diskuze o vzdělávání, návrat vzdělávání sester na střední školy?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ozpor MZ a MŠMT, dvojkolejnost – jak dále s VOŠ?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457200" indent="-457200">
              <a:spcBef>
                <a:spcPts val="451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Klíčové teze návrhu nového zákona vyvolávající zásadní rozpory – </a:t>
            </a: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zdělání všeobecné sestry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233360" y="119664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GillSans"/>
              </a:rPr>
              <a:t>Reakce části odborné veřejnosti na základě poslanecké iniciativy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003d61"/>
                </a:solidFill>
                <a:uFillTx/>
                <a:latin typeface="GillSans"/>
              </a:rPr>
              <a:t>Diskuze o kvalifikačním vzdělávání  všeobecných sester s myšlenkou navrátu vzdělávání zpět na SZŠ.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 u="sng">
                <a:solidFill>
                  <a:srgbClr val="ff0000"/>
                </a:solidFill>
                <a:uFillTx/>
                <a:latin typeface="GillSans"/>
              </a:rPr>
              <a:t>S touto myšlenkou nelze souhlasit z důvodů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nutné harmonizace právních předpisů s předpisy EU (příprava na profesi sestry po 10 nebo 12 všeobecném vzdělání absolvováním 3 letého studijního programu v délce minimálně 4 600 hodin) – jinak hrozí sankce!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doporučení WHO, ICN a EFN pro terciální vzdělávání sester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měny role sester s vývojem medicíny a rozvojem ošetřovatelství, nesystémový přístup v jiných oborech,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měna středoškolského vzdělávání s povinností státní maturity (navýšil se počet hodin všeobecného vzdělávání na úkor odbornosti)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zhoršila se  obecně vstupní a výstupní úroveň vzdělanosti studentů středních škol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sociální nezralost studentů SZŠ – požadavek odpovědnosti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Gill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nezájem o pracovní poměr v 18 letech (prodloužení ve studiích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1063800" indent="-3355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Vypořádání rozporu s MŠMT, poslanci, vzdělavateli  a odbornou veřejností </a:t>
            </a:r>
            <a:endParaRPr b="1" lang="en-US" sz="20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33360" y="1196640"/>
            <a:ext cx="6794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3d61"/>
                </a:solidFill>
                <a:latin typeface="GillSans"/>
              </a:rPr>
              <a:t>Plánované uspořádání „kulatého stolu“ s reprezentativními  zástupci: 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Z – náměstek, ONP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MŠMT – náměstek, zástupci odboru středního, vyššího a vysokého školství 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lanci – zdravotní výbor, školský výbor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Odbor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Poskytovatelů zdravotních služeb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Vzdělavatelů (SZŠ, VOŠ, VŠ)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003d6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illSans"/>
              </a:rPr>
              <a:t>Zaměstnavatelských svazů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Termín:  8. prosince 2014 od 10 hod. na MZ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lvl="1" marL="1085760" indent="-34272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GillSans"/>
              </a:rPr>
              <a:t>Cíl: nalezení kompromisu a konečný závěr v souladu s koncepčními záměry MŠMT a MZČR</a:t>
            </a:r>
            <a:endParaRPr b="0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Zástupný symbol pro číslo snímku 3"/>
          <p:cNvSpPr/>
          <p:nvPr/>
        </p:nvSpPr>
        <p:spPr>
          <a:xfrm>
            <a:off x="6207120" y="6245280"/>
            <a:ext cx="18352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95D3-A3D7-4505-9A8D-790699417C99}" type="slidenum">
              <a:rPr b="0" lang="cs-CZ" sz="1200" spc="-1" strike="noStrike">
                <a:solidFill>
                  <a:srgbClr val="003d61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29" name="Rectangle 4"/>
          <p:cNvSpPr/>
          <p:nvPr/>
        </p:nvSpPr>
        <p:spPr>
          <a:xfrm>
            <a:off x="971640" y="3429000"/>
            <a:ext cx="532764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</a:rPr>
              <a:t>Kontakty:</a:t>
            </a: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          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 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e-mail</a:t>
            </a: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</a:rPr>
              <a:t>:      alena.smidova</a:t>
            </a:r>
            <a:r>
              <a:rPr b="1" lang="cs-CZ" sz="2400" spc="-1" strike="noStrike" u="sng">
                <a:solidFill>
                  <a:srgbClr val="003d61"/>
                </a:solidFill>
                <a:uFillTx/>
                <a:latin typeface="GillSans"/>
                <a:hlinkClick r:id="rId1"/>
              </a:rPr>
              <a:t>@mzcr.cz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d61"/>
                </a:solidFill>
                <a:latin typeface="GillSans"/>
              </a:rPr>
              <a:t>tel:            224 972 355</a:t>
            </a:r>
            <a:endParaRPr b="0" lang="en-US" sz="2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330" name="Rectangle 5"/>
          <p:cNvSpPr/>
          <p:nvPr/>
        </p:nvSpPr>
        <p:spPr>
          <a:xfrm>
            <a:off x="2732760" y="1865160"/>
            <a:ext cx="367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3300"/>
                </a:solidFill>
                <a:latin typeface="GillSans"/>
              </a:rPr>
              <a:t>Děkuji za pozornost</a:t>
            </a:r>
            <a:endParaRPr b="0" lang="en-US" sz="28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 spd="med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2349360"/>
            <a:ext cx="8137440" cy="39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Klíčové teze návrhu nového zákona</a:t>
            </a:r>
            <a:br>
              <a:rPr sz="2800"/>
            </a:br>
            <a:br>
              <a:rPr sz="28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Zákon o podmínkách výkonu zdravotnických povoláních                s výjimkou povolání lékařů a farmaceuta</a:t>
            </a: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(zákon o nelékařských zdravotnických povoláních) 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cs-CZ" sz="2000" spc="-1" strike="noStrike">
                <a:solidFill>
                  <a:srgbClr val="ffffff"/>
                </a:solidFill>
                <a:latin typeface="GillSans"/>
              </a:rPr>
              <a:t>18</a:t>
            </a: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. 11. 2014 </a:t>
            </a:r>
            <a:br>
              <a:rPr sz="1800"/>
            </a:br>
            <a:r>
              <a:rPr b="1" lang="cs-CZ" sz="18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1800"/>
            </a:br>
            <a:br>
              <a:rPr sz="2800"/>
            </a:br>
            <a:r>
              <a:rPr b="1" lang="cs-CZ" sz="2800" spc="-1" strike="noStrike">
                <a:solidFill>
                  <a:srgbClr val="ffffff"/>
                </a:solidFill>
                <a:latin typeface="GillSans"/>
              </a:rPr>
              <a:t> 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1 Oblast výkonu zdravotnického povolání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187280" y="1267920"/>
            <a:ext cx="679464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odstranění pojmu „odborný dohled“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borný dohled ve své stávající zákonné úpravě v praxi neplní původní účel a v rámci působení nelékařských zdravotnických pracovníků při poskytování zdravotních služeb v Evropské unii je nejednoznačně použitelný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zavedení doby na zapracování (adaptační proces) a výkonu povolání pod odborným vedením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avrhuje se zavést zákonem dobu na zapracování (adaptační proces) a tzv. odborné vedení zajistit pouze v této době a při dalším celoživotním profesním vzdělávání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003d61"/>
                </a:solidFill>
                <a:latin typeface="GillSans"/>
              </a:rPr>
              <a:t>Režim výkonu povolání pod odborným vedením se bude týkat zdravotnických pracovníků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,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kteří vstupují do zaměstnání poprvé nebo jako absolventi školy,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kteří přeruší výkon povolání na dobu souvisle delší než 5 le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době specializačního vzdělávání.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1 Oblast výkonu zdravotnického povolání 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výkon povolání pod odborným vedením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Dále pod odborným vedením bude do doby získání specializované způsobilosti vykonávat povolání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sycholog ve zdravotnictví (návrh na přesun klinického psychologa do zákona č.95/2004 Sb.)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logoped ve zdravotnictví,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embryolog ve zdravotnictví.</a:t>
            </a: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buClr>
                <a:srgbClr val="003d61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c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Výkon povolání jako poskytovatele zdravotních služeb (OSVČ) nebo odborného zástupce – </a:t>
            </a:r>
            <a:r>
              <a:rPr b="0" lang="cs-CZ" sz="2000" spc="-1" strike="noStrike">
                <a:solidFill>
                  <a:srgbClr val="c00000"/>
                </a:solidFill>
                <a:latin typeface="GillSans"/>
              </a:rPr>
              <a:t>současná novela zákona č. 372/2011 Sb</a:t>
            </a:r>
            <a:r>
              <a:rPr b="1" lang="cs-CZ" sz="2000" spc="-1" strike="noStrike">
                <a:solidFill>
                  <a:srgbClr val="c00000"/>
                </a:solidFill>
                <a:latin typeface="GillSans"/>
              </a:rPr>
              <a:t>.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Podmínkou udělení registrace jako poskytovatele zdrav. služeb je výkon povolání v oboru po dobu 3 le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lvl="1" marL="82872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cs-CZ" sz="2800" spc="-1" strike="noStrike">
                <a:solidFill>
                  <a:srgbClr val="ff0000"/>
                </a:solidFill>
                <a:latin typeface="GillSans"/>
              </a:rPr>
              <a:t>2 O</a:t>
            </a: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32000" y="3224160"/>
          <a:ext cx="6000840" cy="3247920"/>
        </p:xfrm>
        <a:graphic>
          <a:graphicData uri="http://schemas.openxmlformats.org/drawingml/2006/table">
            <a:tbl>
              <a:tblPr/>
              <a:tblGrid>
                <a:gridCol w="741240"/>
                <a:gridCol w="1779480"/>
                <a:gridCol w="1322640"/>
                <a:gridCol w="941400"/>
                <a:gridCol w="1216080"/>
              </a:tblGrid>
              <a:tr h="711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Zákon č.96/2004 Sb.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Obor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Současné vzdělání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Návrh vzdělání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264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5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Všeobecná sestra 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265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9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dravotní laborant   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5997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5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utriční terapeut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683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6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ubní technik (na Bc. není akreditován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701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7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Dentální hygienistka (pouze na 1VŠ)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 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  <a:tr h="46800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§ 18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Zdravotnický záchranář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GillSans"/>
                        </a:rPr>
                        <a:t>nyní Bc. a VOŠ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4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1d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ts val="15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ffffff"/>
                          </a:solidFill>
                          <a:latin typeface="GillSans"/>
                        </a:rPr>
                        <a:t>Bc.</a:t>
                      </a:r>
                      <a:endParaRPr b="0" lang="en-US" sz="1200" spc="-1" strike="noStrike">
                        <a:solidFill>
                          <a:srgbClr val="003d61"/>
                        </a:solidFill>
                        <a:latin typeface="Garamond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bb30"/>
                    </a:solidFill>
                  </a:tcPr>
                </a:tc>
              </a:tr>
            </a:tbl>
          </a:graphicData>
        </a:graphic>
      </p:graphicFrame>
      <p:sp>
        <p:nvSpPr>
          <p:cNvPr id="291" name="Šipka doprava 4"/>
          <p:cNvSpPr/>
          <p:nvPr/>
        </p:nvSpPr>
        <p:spPr>
          <a:xfrm>
            <a:off x="5398920" y="422100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2" name="Šipka doprava 6"/>
          <p:cNvSpPr/>
          <p:nvPr/>
        </p:nvSpPr>
        <p:spPr>
          <a:xfrm>
            <a:off x="5419800" y="458136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3" name="Šipka doprava 7"/>
          <p:cNvSpPr/>
          <p:nvPr/>
        </p:nvSpPr>
        <p:spPr>
          <a:xfrm>
            <a:off x="5402160" y="515772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4" name="Šipka doprava 8"/>
          <p:cNvSpPr/>
          <p:nvPr/>
        </p:nvSpPr>
        <p:spPr>
          <a:xfrm>
            <a:off x="5398920" y="5661000"/>
            <a:ext cx="457200" cy="114480"/>
          </a:xfrm>
          <a:prstGeom prst="rightArrow">
            <a:avLst>
              <a:gd name="adj1" fmla="val 50000"/>
              <a:gd name="adj2" fmla="val 9984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5" name="Šipka doprava 9"/>
          <p:cNvSpPr/>
          <p:nvPr/>
        </p:nvSpPr>
        <p:spPr>
          <a:xfrm>
            <a:off x="5364000" y="6237360"/>
            <a:ext cx="457200" cy="114120"/>
          </a:xfrm>
          <a:prstGeom prst="rightArrow">
            <a:avLst>
              <a:gd name="adj1" fmla="val 50000"/>
              <a:gd name="adj2" fmla="val 1001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900000" y="1006200"/>
            <a:ext cx="7848720" cy="21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2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3d61"/>
                </a:solidFill>
                <a:uFillTx/>
                <a:latin typeface="Garamond"/>
              </a:rPr>
              <a:t>změny a úpravy v oblasti kvalifikačního vzdělávání </a:t>
            </a:r>
            <a:endParaRPr b="0" lang="en-US" sz="1800" spc="-1" strike="noStrike">
              <a:solidFill>
                <a:srgbClr val="003d61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3d61"/>
                </a:solidFill>
                <a:latin typeface="Garamond"/>
              </a:rPr>
              <a:t>Navrhuje se odstranění duality (dvojkolejnosti) vzdělávání, kdy pro jedno a totéž zdravotnické povolání jsou dvě vzdělávací úrovně (na VŠ a VOŠZ), aniž by se od sebe podstatně odlišovala jejich obsahová náplň s vyústěním v odlišném profilu absolventa.</a:t>
            </a: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d61"/>
              </a:solidFill>
              <a:latin typeface="Garamond"/>
            </a:endParaRPr>
          </a:p>
        </p:txBody>
      </p:sp>
      <p:sp>
        <p:nvSpPr>
          <p:cNvPr id="297" name="Šipka doprava 4"/>
          <p:cNvSpPr/>
          <p:nvPr/>
        </p:nvSpPr>
        <p:spPr>
          <a:xfrm>
            <a:off x="5419800" y="4005360"/>
            <a:ext cx="457200" cy="114120"/>
          </a:xfrm>
          <a:prstGeom prst="rightArrow">
            <a:avLst>
              <a:gd name="adj1" fmla="val 50000"/>
              <a:gd name="adj2" fmla="val 1001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3d61"/>
              </a:solidFill>
              <a:latin typeface="Garamond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187280" y="162864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332640" indent="-3326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a úpravy v oblasti kvalifikačního vzděláv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avrhuje se příprava na výkon povolán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na úrovni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VOŠZ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v oborech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ubní techni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entální hygienistk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Farmaceutický asisten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</a:t>
            </a:r>
            <a:r>
              <a:rPr b="1" lang="cs-CZ" sz="1800" spc="-1" strike="noStrike">
                <a:solidFill>
                  <a:srgbClr val="ff0000"/>
                </a:solidFill>
                <a:latin typeface="GillSans"/>
              </a:rPr>
              <a:t>bakalářském programu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v oborech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Všeobecná sestr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í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ický záchranář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buClr>
                <a:srgbClr val="003d61"/>
              </a:buClr>
              <a:buFont typeface="Gill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utriční terapeut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87280" y="155736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 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dborný pracovník v laboratorních metodách a přípravě léčivých přípravků 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Bioanalyti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Radiologický asistent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Radiologický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Adiktolog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Adiktolog ve zdravotnictví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Farmaceutický asistent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Farmaceutický labora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Masér, nevidomý a slabozraký masér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Masér ve zdravotnictví 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(i jako maturitní obor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3d61"/>
                </a:solidFill>
                <a:latin typeface="GillSans"/>
              </a:rPr>
              <a:t> </a:t>
            </a:r>
            <a:r>
              <a:rPr b="1" lang="cs-CZ" sz="1800" spc="-1" strike="noStrike" u="sng">
                <a:solidFill>
                  <a:srgbClr val="003d61"/>
                </a:solidFill>
                <a:uFillTx/>
                <a:latin typeface="GillSans"/>
              </a:rPr>
              <a:t>změny v názvosloví škol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apř. střední zdravotnická škola </a:t>
            </a:r>
            <a:r>
              <a:rPr b="0" lang="cs-CZ" sz="1800" spc="-1" strike="noStrike">
                <a:solidFill>
                  <a:srgbClr val="003d61"/>
                </a:solidFill>
                <a:latin typeface="Symbol"/>
                <a:ea typeface="Symbol"/>
              </a:rPr>
              <a:t></a:t>
            </a: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 střední odborná škola (má obecnější význam). Nebude se předem formulačně zužovat možnost pro další střední odborné školy, které by hodlaly otevřít zdravotnický obor. Toto se již v praxi  běžně uskutečňuje.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buClr>
                <a:srgbClr val="003d6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33360" y="0"/>
            <a:ext cx="679464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cs-CZ" sz="2400" spc="-1" strike="noStrike">
                <a:solidFill>
                  <a:srgbClr val="ff0000"/>
                </a:solidFill>
                <a:latin typeface="GillSans"/>
              </a:rPr>
              <a:t>2. Oblast vzdělávání</a:t>
            </a:r>
            <a:endParaRPr b="1" lang="en-US" sz="2400" spc="-1" strike="noStrike">
              <a:solidFill>
                <a:srgbClr val="ffffff"/>
              </a:solidFill>
              <a:latin typeface="GillSans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233360" y="1600200"/>
            <a:ext cx="6794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3d61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změny v počtu zdravotnických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– </a:t>
            </a:r>
            <a:r>
              <a:rPr b="1" lang="cs-CZ" sz="2000" spc="-1" strike="noStrike" u="sng">
                <a:solidFill>
                  <a:srgbClr val="003d61"/>
                </a:solidFill>
                <a:uFillTx/>
                <a:latin typeface="GillSans"/>
              </a:rPr>
              <a:t>redukce, ukončení vzdělávání, nové povolání </a:t>
            </a:r>
            <a:endParaRPr b="1" lang="en-US" sz="20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dezinfektor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aboratorní pracovník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zdravotně – sociální pracovník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(transformace oboru po dohodě s MPSV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biotechnický asiste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00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ošetřovatel  </a:t>
            </a:r>
            <a:r>
              <a:rPr b="0" i="1" lang="cs-CZ" sz="1600" spc="-1" strike="noStrike">
                <a:solidFill>
                  <a:srgbClr val="003d61"/>
                </a:solidFill>
                <a:latin typeface="GillSans"/>
              </a:rPr>
              <a:t>(transformace oboru ošetřovatel-pečovatel)</a:t>
            </a:r>
            <a:endParaRPr b="1" lang="en-US" sz="16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asistent zubního technika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laboratorní asistent 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nutriční asistent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kategorie JOP (diskuze k arteterapeutovi a muzikoterapeutovi, herní specialista, nemocniční kaplan)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buClr>
                <a:srgbClr val="003d61"/>
              </a:buClr>
              <a:buFont typeface="Symbol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3d61"/>
                </a:solidFill>
                <a:latin typeface="GillSans"/>
              </a:rPr>
              <a:t>embryolog ve zdravotnictví – klinický embryolog</a:t>
            </a: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d61"/>
              </a:solidFill>
              <a:latin typeface="GillSans"/>
            </a:endParaRPr>
          </a:p>
        </p:txBody>
      </p:sp>
    </p:spTree>
  </p:cSld>
  <p:transition spd="med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1T12:46:12Z</dcterms:created>
  <dc:creator>Michal</dc:creator>
  <dc:description/>
  <dc:language>en-US</dc:language>
  <cp:lastModifiedBy>Šmídová Alena Mgr.</cp:lastModifiedBy>
  <cp:lastPrinted>2014-11-18T06:24:17Z</cp:lastPrinted>
  <dcterms:modified xsi:type="dcterms:W3CDTF">2014-11-18T06:31:59Z</dcterms:modified>
  <cp:revision>141</cp:revision>
  <dc:subject/>
  <dc:title>Novelizace zákona č. 96/2004 Sb.,   o  podmínkách získávání a uznávání způsobilosti k výkonu nelékařských zdravotnických povolání a k výkonu činností souvisejících s poskytováním zdravotní péče a o změně některých souvisejících zákonů (zákon o nelékařských zdravotnických povoláních)</dc:title>
</cp:coreProperties>
</file>