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FF7B5-1D48-433C-AF1B-A77EEEA0FE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188D7-8630-49CB-B31C-9DF2445F774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14197-37F6-42D7-8760-03B2E209BA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E18-F16A-4802-93C0-77B369D1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50C-F60D-41F2-8C9A-7790C4E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F0F-B510-4888-AF70-12BEA57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6FC-89E4-4064-93B7-D0F15E30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2D60-4089-4B42-921F-CF450E70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368-1ABE-4A17-99E1-3D488E9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0648-C471-4C0D-B54D-A5EADEBD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BC0-E564-4C7E-9499-516177D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1FD5-3EF0-48A9-83AA-67B7F20E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7BA8-9AA6-4131-ABA8-FC4FEE7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105-53B5-4432-AB4A-8AF125E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DCA-FD60-416F-8514-8F4FC01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EA73-2E50-4A59-BA5F-5EE51665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620B-1DD0-4D9A-A642-E730545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2A6-266E-441F-90D2-6ED2134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92F1-512D-41DC-AA6A-87D425AE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BD19-C229-4C0C-87E2-D5BFB9F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3CF5-F0A6-4FFA-958E-847C0EA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E0AA-20B0-4C61-94FA-0A1FFBD4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5C96-31E1-49BE-B940-7085A494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55B9-4970-4746-BA5B-71411C97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A1DE-8FE9-488C-B131-F3195AF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163-FD6B-4AB3-A3AF-E82EDE1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766E-9187-4F3D-ABB7-E6C6C54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6939-F8B9-4434-9C5D-04CF482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B1AF-E1F6-4E2D-8286-2178503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AD74-ADB3-4AF5-933B-06EA0BF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9506-E7EE-4C06-A164-3CB40EC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927A-946F-486E-9A25-8DF72D32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161D-A6FE-4E16-8087-64DF4C67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E304-4048-4670-8B99-FAC273CF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24B4-FA2F-4324-8916-6EA8D02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9718-C254-4C7D-B83C-8FC9C5FC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CCD-15E1-4EC0-BE00-A5626103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E9A86-CE1E-47BA-BA53-F0C2E99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0FBA-E237-49F1-8B48-A81E935E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307E-5DBB-4B00-8D20-DC599626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F5D7-B3F5-4E69-AA82-2057EC0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8272-96E6-46C6-978F-DD27B6B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B700-F633-46BF-B4C3-42A7230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EB51-E723-453D-9548-3B3FC1A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ECDD-DCE5-4820-BB3C-3A76F6B7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94DF-B128-4A08-9E8B-B75B376D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55EF-E1B3-4AB3-A7A3-68ABAB33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249-59F3-4F02-A3B8-9EB0FEA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A2C3-B822-48F3-9B60-B4167840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C53B7-62CA-4532-B6B3-3AFD48E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6FB0-8F5C-4146-8A05-5408092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A176-6D5C-4940-9D64-1422662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2E72-C012-42BF-8AFA-103F95A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DCCE-EA57-4846-B57A-5F9131E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8348F-2D9D-4570-8A13-EAF6CE9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7A7C-D86E-4D6B-8709-9D48D48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D6F3-9DAF-42B2-B261-F6CF794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F202-4881-4C43-8CEB-0D3F4589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1BA-B2E4-4CB9-9FE5-1B04A22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2041-58EB-4F45-B79B-9E151C79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2946-4CD8-4BA3-9130-E55CD386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B29E-5206-4C29-BABE-CDBFFC3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176A-9131-408E-AF13-56F82F0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4FAE-52DE-4BEC-B0F8-CD77549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5069-3363-48EC-AA56-DA3BEEA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E291-2E37-4D41-B128-D3088ADD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8CB2-0DFF-48AC-8793-452BD26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49A0-6E0F-4D78-825B-FB76C6C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14A9-D779-4D5F-9650-93C3C6E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2FC-4172-4551-82B1-21F6749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85B6-9D2F-4B32-ACA6-1430DB7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915A-934F-4AA8-9442-590CBF6B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0406-6AF3-4B76-BA41-D042AE2A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876-C21B-4F2A-96D4-19C67C2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A1E-433C-4B6D-909E-CF7D37F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15F-DAA5-4CCC-83A9-7442702E4D97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154-0BAD-4775-B881-4B3180CF6025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7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A09F-4358-4C4F-8238-046DAD5A3A59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4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2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B62-2BE5-4D5A-8D77-5A17A621DDAF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86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BE6B-D3AA-46DE-A77B-411B75A178E1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230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57B8-F744-4DA1-868C-8EC3FD9A57B3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jana.pelcova@mz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9360" y="2492280"/>
            <a:ext cx="6794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Návrh zákona, který má nahradit zákon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 č. 96/2004 Sb.,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o nelékařských zdravotnických povoláních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281" name="Picture 6" descr="ANd9GcTBI4F3c5ESRPgMaAU1m-l0pmg-WgodUhiVclc58UK_Yt03LCcLcHnMkCX0"/>
          <p:cNvPicPr/>
          <p:nvPr/>
        </p:nvPicPr>
        <p:blipFill>
          <a:blip r:embed="rId1"/>
          <a:stretch/>
        </p:blipFill>
        <p:spPr>
          <a:xfrm>
            <a:off x="611280" y="3284640"/>
            <a:ext cx="1780920" cy="2617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872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magisterský stupeň vzděl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ově je v zákoně zmíněna možnost rozšíření odborné způsobilosti pro bakalářské zdravotnické obory pro oblasti se zaměřením 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edagogiku, vědu a výzkum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kročilé role v klinické praxi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 možností </a:t>
            </a:r>
            <a:r>
              <a:rPr b="1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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kompeten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ude možné navýšit absolventům s bakalářským stupněm vzdělání vědomosti a dovednosti v určitých oblastech -  např. v péči o seniory, pacienty v onkologii, paliativní péči. Tyto návrhy jsou porovnatelné s již fungujícími systémy v zahraničí (pokročilá praxe – Nurses in Advanced Roles)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 celoživotním vzděl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yní používaný kreditní systém se navrhuje nahradit stanovením určitéh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inimálního počtu hodin celoživotního profesního vzdělávání v kalendářním ro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a to diferencovaně podle stupně vzdělání oboru zdravotnického povolán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Mgr., Bc., VOŠ (současná registrovaná povolání)  – 12 hodin ročně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 středních škol s maturitou – 6 hodin ročně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tatní - AKK - určí zaměstnavatel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/3 lze absolvovat u svého zaměstnavatel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specializač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odmínkou pro zařazení do specializace –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kázání 2 let  výkonu povolání v obor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vykonat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ejpozději do 5 let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 okamžiku, kdy uchazeč splnil všechny podmínky VP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akovat nejdříve za 5 měsíců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e dne neúspěšně vykonané zkoušky (dosud vyhláškou stanoveno nejdříve po uplynutí 12 měs.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Specializovanou způsobilost nelze získat navazujícím mgr. studie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Upuštění od průkazu odbornosti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-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 důvodu neúčelné duplicitní administrace, průkaz pozbyl účelnosti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 poj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certifikovaný kurz </a:t>
            </a: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>
              <a:spcBef>
                <a:spcPts val="451"/>
              </a:spcBef>
              <a:buClr>
                <a:srgbClr val="003d61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kreditovaný funkční kurz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terým se získá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vláštní odborná způsobil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ůvod: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nový název lépe vystihuje povahu tohoto kurzu, který vlastně ani nepodléhá certifikaci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odstranit určité matení pojmů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3 Oblast akreditac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znik oborových akreditačních komis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podle příbuznosti oborů) - dnes jedna komise,  vznik rady akreditačních komis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pravomocí akreditační komis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kontrolní činnost akreditovan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jednodušení akreditačního říz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možností neudělení akredita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ové nastavení kontrolních a sankčních mechanis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lnění mezer v právní úpravě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nyní absentují ustanovení o zániku akreditace či ohledně možnosti jejího převodu na jiný právní subjekt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4 Oblast registrace zdravotnických pracovníků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 zdravotnických pracovník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 ukotven s vazbou na zákon č. 372/2011 Sb. – novela zákona o zdravotních službá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gulovaných zdravotnických povolání podle směrnice o uznávání odborných kvalifikací a dále některá povolání, která poskytují přímou péči o pacienta  a je potřebný elektronický podpis či ověření totožnosti zdravotnického pracovníka – elektronický vstup, sloučení všech registrů na jednotnou platformu – registr poskytovatelů, registr zdravotnických pracovníků, návaznost na registry  osob, registry chorob….e Health – zdravotnická dokument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5 Oblast uznávání způsobilosti získané v jiném členském státě EU nebo mimo EU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implementace Směrnice Evropského parlamentu a Rady 2013/55/EU ze dne 20. listopadu 2013, kterou se mění směrnice 2005/36/ES o uznávání odborných kvalifikací 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lhůta pro implementaci citované směrnice byla určena na dobu dvou let, tj.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do 18. ledna 2016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6 Oblast správních deliktů, formální uspořádání  zákona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Jednoznačnější vymezení a zpřísnění systému sank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ukládaných za nedodržení povinností vyplývajících ze zákon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šení přehled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edle úprav věcného charakteru se na základě změny ve formálním uspořádání zvýšila přehledn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nížení počtu §§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část : § 5 až § 43  - předchozí vzdělání všech povolání je uvedeno v příloze zákona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Prováděcí předpisy k novému zákonu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850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minimálních požadavcích na vzdělávací program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- vyhláška č. 39/2005 Sb.)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činnostech + metodický pokyn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vyhláška č. 55/2011 Sb. 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specializacích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NV č. 31/2010 Sb.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akreditovaných funkčních kurzech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akreditovaných kvalifikačních kurze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celoživotním profesním vzdělávání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aprobační zkouš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Nebude upraveno zákonem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(původně navrženo) 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112356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Podmínky k výkonu řídící funkce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– ošetřovatelství a ostatních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stanov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unkce hlavní sestry ČR,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noveny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oucí funkce ve zdravotnic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ná způsobilost (VŠ/VOŠ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ání v managementu (CK/ spec./ VŠ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 roky prax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značení a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ení ošetřovatelských tý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áměstek pro oš. péči /hlavní sestr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gr. vzdělán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1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let praxe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rch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Bc./VOŠ + management+ 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roky prax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tanič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nagement/specializace  + 3 roky praxe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Nové termíny předložení návrhu novely a nového zákona – 2. fáze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58920" y="1599840"/>
            <a:ext cx="6794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3d61"/>
              </a:buClr>
              <a:buFont typeface="Gill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Listopad 2014 – transpozice novely směrnice 2005/36/ES do novela zákona 96/2004 Sb.– gestorem je MŠMT – účinnost od ledna 2016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2)   Listopad 2015 – předložení návrhu nového zákona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 Vlády, účinnost od ledna 2017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ůvody zpoždění předložení záko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ové vedení MZ – nové schválení  tezí zákona na PV v dubnu a listopadu 2014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slanecká iniciativa – kulaté stoly s odbornou veřejností – diskuze o vzdělávání, návrat vzdělávání sester na střední školy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por MZ a MŠMT, dvojkolejnost – jak dále s VOŠ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líčové teze návrhu nového zákona vyvolávající zásadní rozpory –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zdělání všeobecné sestr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GillSans"/>
              </a:rPr>
              <a:t>Reakce části odborné veřejnosti na základě poslanecké iniciativ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Diskuze o kvalifikačním vzdělávání  všeobecných sester s myšlenkou navrátu vzdělávání zpět na SZŠ.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GillSans"/>
              </a:rPr>
              <a:t>S touto myšlenkou nelze souhlasit z důvodů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utné harmonizace právních předpisů s předpisy EU (příprava na profesi sestry po 10 nebo 12 všeobecném vzdělání absolvováním 3 letého studijního programu v délce minimálně 4 600 hodin) – jinak hrozí sankce!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doporučení WHO, ICN a EFN pro terciální vzdělávání seste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y role sester s vývojem medicíny a rozvojem ošetřovatelství, nesystémový přístup v jiných oborech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a středoškolského vzdělávání s povinností státní maturity (navýšil se počet hodin všeobecného vzdělávání na úkor odbornosti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horšila se  obecně vstupní a výstupní úroveň vzdělanosti studentů středních škol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sociální nezralost studentů SZŠ – požadavek odpovědnosti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ezájem o pracovní poměr v 18 letech (prodloužení ve studiích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63800" indent="-3355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ypořádání rozporu s MŠMT, poslanci, vzdělavateli  a odbornou veřejnost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lánované uspořádání „kulatého stolu“ s reprezentativními  zástupci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Z – náměstek, ONP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ŠMT – náměstek, zástupci odboru středního, vyššího a vysokého škols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lanci – zdravotní výbor, školský výbo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ů zdravotních služeb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avatelů (SZŠ, VOŠ, VŠ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městnavatelských svaz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ermín:  8. prosince 2014 od 10 hod. na MZ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Cíl: nalezení kompromisu a konečný závěr v souladu s koncepčními záměry MŠMT a MZČ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číslo snímku 3"/>
          <p:cNvSpPr/>
          <p:nvPr/>
        </p:nvSpPr>
        <p:spPr>
          <a:xfrm>
            <a:off x="6207120" y="6245280"/>
            <a:ext cx="18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E13-6AAC-4561-BE16-6047421A3F01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971640" y="3429000"/>
            <a:ext cx="5327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Kontakty: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        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e-mail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:      alena.smidova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@mzcr.cz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tel:            224 972 35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732760" y="18651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GillSans"/>
              </a:rPr>
              <a:t>Děkuji za pozornost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2349360"/>
            <a:ext cx="813744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Klíčové teze návrhu nového zákona</a:t>
            </a:r>
            <a:br>
              <a:rPr sz="2800"/>
            </a:b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ákon o podmínkách výkonu zdravotnických povoláních                s výjimkou povolání lékařů a farmaceut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(zákon o nelékařských zdravotnických povoláních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18</a:t>
            </a: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. 11. 2014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1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728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odstranění pojmu „odborný dohled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dohled ve své stávající zákonné úpravě v praxi neplní původní účel a v rámci působení nelékařských zdravotnických pracovníků při poskytování zdravotních služeb v Evropské unii je nejednoznačně použitelný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avedení doby na zapracování (adaptační proces) a výkonu povolání pod odborným vedení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vrhuje se zavést zákonem dobu na zapracování (adaptační proces) a tzv. odborné vedení zajistit pouze v této době a při dalším celoživotním profesním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Režim výkonu povolání pod odborným vedením se bude týkat zdravotnických pracovníků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vstupují do zaměstnání poprvé nebo jako absolventi školy,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přeruší výkon povolání na dobu souvisle delší než 5 le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době specializačního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výkon povolání pod odborným vedení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ále pod odborným vedením bude do doby získání specializované způsobilosti vykonávat povolání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sycholog ve zdravotnictví (návrh na přesun klinického psychologa do zákona č.95/2004 Sb.)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logoped ve zdravotnictví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embryolog ve zdravotnictví.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Výkon povolání jako poskytovatele zdravotních služeb (OSVČ) nebo odborného zástupce –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současná novela zákona č. 372/2011 Sb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dmínkou udělení registrace jako poskytovatele zdrav. služeb je výkon povolání v oboru po dobu 3 le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GillSans"/>
              </a:rPr>
              <a:t>2 O</a:t>
            </a: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32000" y="3224160"/>
          <a:ext cx="6000840" cy="3247920"/>
        </p:xfrm>
        <a:graphic>
          <a:graphicData uri="http://schemas.openxmlformats.org/drawingml/2006/table">
            <a:tbl>
              <a:tblPr/>
              <a:tblGrid>
                <a:gridCol w="741240"/>
                <a:gridCol w="1779480"/>
                <a:gridCol w="1322640"/>
                <a:gridCol w="941400"/>
                <a:gridCol w="1216080"/>
              </a:tblGrid>
              <a:tr h="711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Zákon č.96/2004 Sb.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Obor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oučasné vzdělání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Návrh vzdělání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šeobecná sestra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9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í laborant 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utriční terapeut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6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ubní technik (na Bc. není akreditován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7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Dentální hygienistka (pouze na 1VŠ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8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ický záchranář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</a:tbl>
          </a:graphicData>
        </a:graphic>
      </p:graphicFrame>
      <p:sp>
        <p:nvSpPr>
          <p:cNvPr id="291" name="Šipka doprava 4"/>
          <p:cNvSpPr/>
          <p:nvPr/>
        </p:nvSpPr>
        <p:spPr>
          <a:xfrm>
            <a:off x="5398920" y="422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2" name="Šipka doprava 6"/>
          <p:cNvSpPr/>
          <p:nvPr/>
        </p:nvSpPr>
        <p:spPr>
          <a:xfrm>
            <a:off x="5419800" y="458136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3" name="Šipka doprava 7"/>
          <p:cNvSpPr/>
          <p:nvPr/>
        </p:nvSpPr>
        <p:spPr>
          <a:xfrm>
            <a:off x="5402160" y="515772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4" name="Šipka doprava 8"/>
          <p:cNvSpPr/>
          <p:nvPr/>
        </p:nvSpPr>
        <p:spPr>
          <a:xfrm>
            <a:off x="5398920" y="566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5" name="Šipka doprava 9"/>
          <p:cNvSpPr/>
          <p:nvPr/>
        </p:nvSpPr>
        <p:spPr>
          <a:xfrm>
            <a:off x="5364000" y="6237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00000" y="1006200"/>
            <a:ext cx="7848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aramond"/>
              </a:rPr>
              <a:t>změny a úpravy v oblasti kvalifikačního vzdělávání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aramond"/>
              </a:rPr>
              <a:t>Navrhuje se odstranění duality (dvojkolejnosti) vzdělávání, kdy pro jedno a totéž zdravotnické povolání jsou dvě vzdělávací úrovně (na VŠ a VOŠZ), aniž by se od sebe podstatně odlišovala jejich obsahová náplň s vyústěním v odlišném profilu absolventa.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7" name="Šipka doprava 4"/>
          <p:cNvSpPr/>
          <p:nvPr/>
        </p:nvSpPr>
        <p:spPr>
          <a:xfrm>
            <a:off x="5419800" y="4005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87280" y="162864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332640" indent="-3326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a úpravy v oblasti kvalifikačního vzděláv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vrhuje se příprava na výkon povolán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 úrovni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VOŠZ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v obore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ubní techn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ntální hygienist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bakalářském programu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oborech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šeobecná sestr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í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ický záchranář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terapeut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87280" y="1557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 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pracovník v laboratorních metodách a přípravě léčivých přípravků 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Bioanalyt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adiolog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adiolog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diktolog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diktolog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Farmaceut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sér, nevidomý a slabozraký masér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asér ve zdravotnictv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i jako maturitní obor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škol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př. střední zdravotnická škola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střední odborná škola (má obecnější význam). Nebude se předem formulačně zužovat možnost pro další střední odborné školy, které by hodlaly otevřít zdravotnický obor. Toto se již v praxi  běžně uskutečňuj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počtu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–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redukce, ukončení vzdělávání, nové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zinfektor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pracovní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ě – sociální pracovník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po dohodě s MPSV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iotechnický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šetřovatel 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ošetřovatel-pečovatel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sistent zubního techni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ategorie JOP (diskuze k arteterapeutovi a muzikoterapeutovi, herní specialista, nemocniční kaplan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embryolog ve zdravotnictví – klinický embryolog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46:12Z</dcterms:created>
  <dc:creator>Michal</dc:creator>
  <dc:description/>
  <dc:language>en-US</dc:language>
  <cp:lastModifiedBy>Šmídová Alena Mgr.</cp:lastModifiedBy>
  <cp:lastPrinted>2014-11-18T06:24:17Z</cp:lastPrinted>
  <dcterms:modified xsi:type="dcterms:W3CDTF">2014-11-18T06:31:59Z</dcterms:modified>
  <cp:revision>141</cp:revision>
  <dc:subject/>
  <dc:title>Novelizace zákona č. 96/2004 Sb.,   o  podmínkách získávání a uznávání způsobilosti k výkonu nelékařských zdravotnických povolání a k výkonu činností souvisejících s poskytováním zdravotní péče a o změně některých souvisejících zákonů (zákon o nelékařských zdravotnických povoláních)</dc:title>
</cp:coreProperties>
</file>