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6D8E8-3793-48AA-B5F6-58DBD561BA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7A90F8-5DF8-4160-B2F7-E91ED03F6FD6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8FF15-E9FD-489E-AD46-AD55F18A4FA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BD79-18F4-448C-BE33-7DD1AB8B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31B3-1BD8-4B95-9EDD-18EC8538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E9C3-CD10-48AC-A761-9E71132D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893-6AD9-4083-886B-209F8C21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A283-FF6E-4EE2-91DA-9401F1DE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14FA-CF97-4EBA-B869-FC82946B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6BEF-BD1C-4237-AC6C-0D7B00AA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0FBD-5D77-469F-83AC-69FE99A8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A4DC-CC6A-4860-8171-C7606C34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4755-0C3C-4CCF-AC50-3D24A15A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ADDB-782F-4D74-B12F-509624A3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313-ED30-486F-B6CB-9337A26F6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80FF-49EC-41B4-B4F4-372EC270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CE54-BF1E-47A7-AB95-6C4E60A9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BFA4-7BCB-4676-AB2D-64D9FA84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9828E-9AC3-451B-AF9C-52772DF7E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9208-C462-47DE-84B5-6711EBA8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0DBD0-39D2-4955-8545-390E906A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CBCCB-6E10-4667-A171-4A625551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43349-928F-42E1-82A3-4412F8DE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1E545-5873-413D-97C6-E511C74F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89A63-088D-428E-B7D0-414694F5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ED6-F813-43B9-A376-49D71DDD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9DABA-66EC-479A-B60F-9BF94759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5B08-8779-48FC-AEFA-C0F0B90F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2D729-0D83-45CA-A3A9-FA77186B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D9B8F-D46E-44FA-9D42-F4919E56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0E8DE-ABEC-486C-9CDF-8A8ABEE5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F6E1-C062-4D69-8DE4-530368F60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92CB-65C2-4FC4-A522-3E267530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C44FC-36E6-45F4-B2EB-BD184B7B6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9CC65-D43A-40A1-8B24-166B1ABA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CC71B-F6C1-4E8E-BC59-75C0A4B0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79DC-64CB-4422-A61E-F6414C62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03DA7-3C58-4A50-A5BF-696F0341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46E7D-75F7-47FF-85B2-4757EA3E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FFD7F-6B4D-4311-8159-A3C8DCD1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89B66-5020-4213-9E82-798B615F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63E4-1DD3-4081-A54C-FB5BA006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7E5A3-5947-4A81-96BC-00D1958D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D1170-4A89-43C6-9938-7F81D58E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F4E54-B239-46D3-AF69-58D10993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6100B-0179-4771-BEE8-66BE454D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B43DD-AA2D-41B9-BE67-1B389BF1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776-3832-489F-A875-933BEC4A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5BEE-72ED-4906-B90A-CA2ED750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F48B5-297A-4461-86EB-8C90D7CF6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97FB2-A7A6-4C1C-8DFB-4EA6E77B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A7221-AB0E-4F7B-AF88-8C7C10D8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E1266-5C21-4488-B240-9D149B00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4B59C-C030-40E6-ABF9-A94322E7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873BC-2675-4712-8F0A-7EE3D8DB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1E26E-D25D-4326-8551-9B777B17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A974C-BC5C-4CBD-84A7-E98BD981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FDA6C-082D-4702-AC85-03D6945E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1AEB-10BF-49B6-9406-D6747CDE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4C3FE-3914-4A30-A1B1-014D6D50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B5A41-5FE5-4C31-BCC8-81A1FADD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1C173-29DD-4C86-9126-4A117B79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3A500-E3A9-4EC3-8C4C-9C818149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3B95C-D043-4ACA-8ED2-6804B10E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F5DD9-AF36-4D65-8E2E-66026F03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E83F3-73C6-4C04-9134-071B9C8D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09F86-2400-4666-8FEC-F10CE5C1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61386F-FB43-4749-9E52-80B1A14C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4CEB8-F766-49A6-9AAA-19F0206B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C74C-0424-4E37-ACC3-C5CAAA49E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157A3-D78E-41BA-BA13-0CC654D8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69D66-5539-484E-9855-82FF57E1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1E83D-FBDE-46E6-BC6F-5881FAA02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548A-B97C-4313-959E-BF705206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D61-FD5C-4282-ADEC-EDDE6403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3d61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1D33-0054-4D04-BDC1-86FB5FD8DD01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0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3d61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2C7C-E8D6-4416-8D60-CFE591C46D17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7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3d61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A98C-1BB0-4AFD-B3D4-C93031AA0F0A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04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2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60D2-F374-482E-857B-69CB5F3E9471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86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2DB1-8EE8-4241-8445-EDD2FF4C74AE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230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25C5-9C66-45E8-BDAC-83FF34D55B6C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jana.pelcova@mz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49360" y="2492280"/>
            <a:ext cx="6794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3200" spc="-1" strike="noStrike">
                <a:solidFill>
                  <a:srgbClr val="ffffff"/>
                </a:solidFill>
                <a:latin typeface="GillSans"/>
              </a:rPr>
              <a:t>Návrh zákona, který má nahradit zákon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GillSans"/>
              </a:rPr>
              <a:t> č. 96/2004 Sb.,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GillSans"/>
              </a:rPr>
              <a:t>o nelékařských zdravotnických povoláních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281" name="Picture 6" descr="ANd9GcTBI4F3c5ESRPgMaAU1m-l0pmg-WgodUhiVclc58UK_Yt03LCcLcHnMkCX0"/>
          <p:cNvPicPr/>
          <p:nvPr/>
        </p:nvPicPr>
        <p:blipFill>
          <a:blip r:embed="rId1"/>
          <a:stretch/>
        </p:blipFill>
        <p:spPr>
          <a:xfrm>
            <a:off x="611280" y="3284640"/>
            <a:ext cx="1780920" cy="2617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87280" y="1341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magisterský stupeň vzděl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ově je v zákoně zmíněna možnost rozšíření odborné způsobilosti pro bakalářské zdravotnické obory pro oblasti se zaměřením na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Gill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edagogiku, vědu a výzkum ve zdravotnictv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Gill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kročilé role v klinické praxi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S možností </a:t>
            </a:r>
            <a:r>
              <a:rPr b="1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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kompetenc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bude možné navýšit absolventům s bakalářským stupněm vzdělání vědomosti a dovednosti v určitých oblastech -  např. v péči o seniory, pacienty v onkologii, paliativní péči. Tyto návrhy jsou porovnatelné s již fungujícími systémy v zahraničí (pokročilá praxe – Nurses in Advanced Roles)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celoživotního profesního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 celoživotním vzděláv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yní používaný kreditní systém se navrhuje nahradit stanovením určitého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inimálního počtu hodin celoživotního profesního vzdělávání v kalendářním roc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, a to diferencovaně podle stupně vzdělání oboru zdravotnického povolání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 povolání Mgr., Bc., VOŠ (současná registrovaná povolání)  – 12 hodin ročně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 povolání  středních škol s maturitou – 6 hodin ročně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statní - AKK - určí zaměstnavatel 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2/3 lze absolvovat u svého zaměstnavatel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specializačního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Podmínkou pro zařazení do specializace –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kázání 2 let  výkonu povolání v oboru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testační zkoušku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ze vykonat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ejpozději do 5 let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 okamžiku, kdy uchazeč splnil všechny podmínky VP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testační zkoušku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ze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pakovat nejdříve za 5 měsíců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e dne neúspěšně vykonané zkoušky (dosud vyhláškou stanoveno nejdříve po uplynutí 12 měs.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Specializovanou způsobilost nelze získat navazujícím mgr. studiem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Upuštění od průkazu odbornosti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 -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 důvodu neúčelné duplicitní administrace, průkaz pozbyl účelnosti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. Oblast celoživotního profesního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 názvosloví  pojm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GillSans"/>
              </a:rPr>
              <a:t>certifikovaný kurz </a:t>
            </a:r>
            <a:r>
              <a:rPr b="1" lang="cs-CZ" sz="1800" spc="-1" strike="noStrike">
                <a:solidFill>
                  <a:srgbClr val="c00000"/>
                </a:solidFill>
                <a:latin typeface="GillSans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>
              <a:spcBef>
                <a:spcPts val="451"/>
              </a:spcBef>
              <a:buClr>
                <a:srgbClr val="003d61"/>
              </a:buClr>
              <a:buFont typeface="Symbol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kreditovaný funkční kurz,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kterým se získá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zvláštní odborná způsobilos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Důvod: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- nový název lépe vystihuje povahu tohoto kurzu, který vlastně ani nepodléhá certifikaci.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- odstranit určité matení pojmů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3 Oblast akreditac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znik oborových akreditačních komis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podle příbuznosti oborů) - dnes jedna komise,  vznik rady akreditačních komis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šíření pravomocí akreditační komis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apř. kontrolní činnost akreditovaných zařízení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jednodušení akreditačního říz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šíření možností neudělení akreditac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ové nastavení kontrolních a sankčních mechanism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plnění mezer v právní úpravě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apř. nyní absentují ustanovení o zániku akreditace či ohledně možnosti jejího převodu na jiný právní subjekt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4 Oblast registrace zdravotnických pracovníků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gistr zdravotnických pracovníků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bude ukotven s vazbou na zákon č. 372/2011 Sb. – novela zákona o zdravotních službách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gistrac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gulovaných zdravotnických povolání podle směrnice o uznávání odborných kvalifikací a dále některá povolání, která poskytují přímou péči o pacienta  a je potřebný elektronický podpis či ověření totožnosti zdravotnického pracovníka – elektronický vstup, sloučení všech registrů na jednotnou platformu – registr poskytovatelů, registr zdravotnických pracovníků, návaznost na registry  osob, registry chorob….e Health – zdravotnická dokumentace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5 Oblast uznávání způsobilosti získané v jiném členském státě EU nebo mimo EU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implementace Směrnice Evropského parlamentu a Rady 2013/55/EU ze dne 20. listopadu 2013, kterou se mění směrnice 2005/36/ES o uznávání odborných kvalifikací 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lhůta pro implementaci citované směrnice byla určena na dobu dvou let, tj. 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do 18. ledna 2016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6 Oblast správních deliktů, formální uspořádání  zákona 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Jednoznačnější vymezení a zpřísnění systému sankc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ukládaných za nedodržení povinností vyplývajících ze zákon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výšení přehledn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vedle úprav věcného charakteru se na základě změny ve formálním uspořádání zvýšila přehlednos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snížení počtu §§,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část : § 5 až § 43  - předchozí vzdělání všech povolání je uvedeno v příloze zákona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Prováděcí předpisy k novému zákonu 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850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minimálních požadavcích na vzdělávací program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yní - vyhláška č. 39/2005 Sb.)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činnostech + metodický pokyn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yní vyhláška č. 55/2011 Sb. 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specializacích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yní NV č. 31/2010 Sb.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akreditovaných funkčních kurzech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Vyhláška o akreditovaných kvalifikačních kurzech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Vyhláška o celoživotním profesním vzdělávání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</a:t>
            </a: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aprobační zkouš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Nebude upraveno zákonem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(původně navrženo)  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1123560"/>
            <a:ext cx="7850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Podmínky k výkonu řídící funkce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– ošetřovatelství a ostatních zdravotnických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ustanovení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funkce hlavní sestry ČR,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tanoveny podmínky pro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edoucí funkce ve zdravotnictví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dborná způsobilost (VŠ/VOŠ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zdělání v managementu (CK/ spec./ VŠ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3 roky praxe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značení a podmínky pro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edení ošetřovatelských tým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áměstek pro oš. péči /hlavní sestr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gr. vzdělání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10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let praxe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rchní sestra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–Bc./VOŠ + management+ 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5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roky prax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taniční sestra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–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anagement/specializace  + 3 roky praxe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Nové termíny předložení návrhu novely a nového zákona – 2. fáze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58920" y="1599840"/>
            <a:ext cx="6794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3d61"/>
              </a:buClr>
              <a:buFont typeface="Gill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Listopad 2014 – transpozice novely směrnice 2005/36/ES do novela zákona 96/2004 Sb.– gestorem je MŠMT – účinnost od ledna 2016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2)   Listopad 2015 – předložení návrhu nového zákona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 Vlády, účinnost od ledna 2017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Důvody zpoždění předložení zákona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ové vedení MZ – nové schválení  tezí zákona na PV v dubnu a listopadu 2014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slanecká iniciativa – kulaté stoly s odbornou veřejností – diskuze o vzdělávání, návrat vzdělávání sester na střední školy?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Rozpor MZ a MŠMT, dvojkolejnost – jak dále s VOŠ?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Klíčové teze návrhu nového zákona vyvolávající zásadní rozpory – 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zdělání všeobecné sestry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33360" y="119664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GillSans"/>
              </a:rPr>
              <a:t>Reakce části odborné veřejnosti na základě poslanecké iniciativy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3d61"/>
                </a:solidFill>
                <a:uFillTx/>
                <a:latin typeface="GillSans"/>
              </a:rPr>
              <a:t>Diskuze o kvalifikačním vzdělávání  všeobecných sester s myšlenkou navrátu vzdělávání zpět na SZŠ.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GillSans"/>
              </a:rPr>
              <a:t>S touto myšlenkou nelze souhlasit z důvodů: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nutné harmonizace právních předpisů s předpisy EU (příprava na profesi sestry po 10 nebo 12 všeobecném vzdělání absolvováním 3 letého studijního programu v délce minimálně 4 600 hodin) – jinak hrozí sankce!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doporučení WHO, ICN a EFN pro terciální vzdělávání sester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měny role sester s vývojem medicíny a rozvojem ošetřovatelství, nesystémový přístup v jiných oborech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měna středoškolského vzdělávání s povinností státní maturity (navýšil se počet hodin všeobecného vzdělávání na úkor odbornosti)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horšila se  obecně vstupní a výstupní úroveň vzdělanosti studentů středních škol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sociální nezralost studentů SZŠ – požadavek odpovědnosti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nezájem o pracovní poměr v 18 letech (prodloužení ve studiích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1063800" indent="-3355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ypořádání rozporu s MŠMT, poslanci, vzdělavateli  a odbornou veřejností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33360" y="119664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lánované uspořádání „kulatého stolu“ s reprezentativními  zástupci: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Z – náměstek, ONP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ŠMT – náměstek, zástupci odboru středního, vyššího a vysokého školství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lanci – zdravotní výbor, školský výbor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dbor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ů zdravotních služeb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zdělavatelů (SZŠ, VOŠ, VŠ)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městnavatelských svaz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Termín:  8. prosince 2014 od 10 hod. na MZ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Cíl: nalezení kompromisu a konečný závěr v souladu s koncepčními záměry MŠMT a MZČR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Zástupný symbol pro číslo snímku 3"/>
          <p:cNvSpPr/>
          <p:nvPr/>
        </p:nvSpPr>
        <p:spPr>
          <a:xfrm>
            <a:off x="6207120" y="6245280"/>
            <a:ext cx="18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0040-BE45-4A55-BF19-080F01AF9AF1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971640" y="3429000"/>
            <a:ext cx="5327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3d61"/>
                </a:solidFill>
                <a:uFillTx/>
                <a:latin typeface="GillSans"/>
              </a:rPr>
              <a:t>Kontakty: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          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e-mail</a:t>
            </a:r>
            <a:r>
              <a:rPr b="1" lang="cs-CZ" sz="2400" spc="-1" strike="noStrike" u="sng">
                <a:solidFill>
                  <a:srgbClr val="003d61"/>
                </a:solidFill>
                <a:uFillTx/>
                <a:latin typeface="GillSans"/>
              </a:rPr>
              <a:t>:      alena.smidova</a:t>
            </a:r>
            <a:r>
              <a:rPr b="1" lang="cs-CZ" sz="24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@mzcr.cz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tel:            224 972 355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732760" y="1865160"/>
            <a:ext cx="36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GillSans"/>
              </a:rPr>
              <a:t>Děkuji za pozornost</a:t>
            </a:r>
            <a:endParaRPr b="0" lang="en-US" sz="28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2349360"/>
            <a:ext cx="813744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Klíčové teze návrhu nového zákona</a:t>
            </a:r>
            <a:br>
              <a:rPr sz="2800"/>
            </a:b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ákon o podmínkách výkonu zdravotnických povoláních                s výjimkou povolání lékařů a farmaceuta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(zákon o nelékařských zdravotnických povoláních)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18</a:t>
            </a:r>
            <a:r>
              <a:rPr b="1" lang="cs-CZ" sz="1800" spc="-1" strike="noStrike">
                <a:solidFill>
                  <a:srgbClr val="ffffff"/>
                </a:solidFill>
                <a:latin typeface="GillSans"/>
              </a:rPr>
              <a:t>. 11. 2014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GillSans"/>
              </a:rPr>
              <a:t> </a:t>
            </a:r>
            <a:br>
              <a:rPr sz="1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1 Oblast výkonu zdravotnického povolání 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87280" y="1267920"/>
            <a:ext cx="6794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odstranění pojmu „odborný dohled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borný dohled ve své stávající zákonné úpravě v praxi neplní původní účel a v rámci působení nelékařských zdravotnických pracovníků při poskytování zdravotních služeb v Evropské unii je nejednoznačně použitelný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zavedení doby na zapracování (adaptační proces) a výkonu povolání pod odborným vedením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avrhuje se zavést zákonem dobu na zapracování (adaptační proces) a tzv. odborné vedení zajistit pouze v této době a při dalším celoživotním profesním vzdělávání.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3d61"/>
                </a:solidFill>
                <a:latin typeface="GillSans"/>
              </a:rPr>
              <a:t>Režim výkonu povolání pod odborným vedením se bude týkat zdravotnických pracovníků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,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kteří vstupují do zaměstnání poprvé nebo jako absolventi školy,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kteří přeruší výkon povolání na dobu souvisle delší než 5 le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 době specializačního vzdělávání.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1 Oblast výkonu zdravotnického povolání 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výkon povolání pod odborným vedením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Dále pod odborným vedením bude do doby získání specializované způsobilosti vykonávat povolání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sycholog ve zdravotnictví (návrh na přesun klinického psychologa do zákona č.95/2004 Sb.)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logoped ve zdravotnictví,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embryolog ve zdravotnictví.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Výkon povolání jako poskytovatele zdravotních služeb (OSVČ) nebo odborného zástupce –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současná novela zákona č. 372/2011 Sb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dmínkou udělení registrace jako poskytovatele zdrav. služeb je výkon povolání v oboru po dobu 3 le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GillSans"/>
              </a:rPr>
              <a:t>2 O</a:t>
            </a: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332000" y="3224160"/>
          <a:ext cx="6000840" cy="3247920"/>
        </p:xfrm>
        <a:graphic>
          <a:graphicData uri="http://schemas.openxmlformats.org/drawingml/2006/table">
            <a:tbl>
              <a:tblPr/>
              <a:tblGrid>
                <a:gridCol w="741240"/>
                <a:gridCol w="1779480"/>
                <a:gridCol w="1322640"/>
                <a:gridCol w="941400"/>
                <a:gridCol w="1216080"/>
              </a:tblGrid>
              <a:tr h="711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Zákon č.96/2004 Sb.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Obor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Současné vzdělání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Návrh vzdělání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5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Všeobecná sestra 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9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dravotní laborant  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599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5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utriční terapeut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6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ubní technik (na Bc. není akreditován)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470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7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Dentální hygienistka (pouze na 1VŠ)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8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dravotnický záchranář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</a:tbl>
          </a:graphicData>
        </a:graphic>
      </p:graphicFrame>
      <p:sp>
        <p:nvSpPr>
          <p:cNvPr id="291" name="Šipka doprava 4"/>
          <p:cNvSpPr/>
          <p:nvPr/>
        </p:nvSpPr>
        <p:spPr>
          <a:xfrm>
            <a:off x="5398920" y="422100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2" name="Šipka doprava 6"/>
          <p:cNvSpPr/>
          <p:nvPr/>
        </p:nvSpPr>
        <p:spPr>
          <a:xfrm>
            <a:off x="5419800" y="458136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3" name="Šipka doprava 7"/>
          <p:cNvSpPr/>
          <p:nvPr/>
        </p:nvSpPr>
        <p:spPr>
          <a:xfrm>
            <a:off x="5402160" y="515772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4" name="Šipka doprava 8"/>
          <p:cNvSpPr/>
          <p:nvPr/>
        </p:nvSpPr>
        <p:spPr>
          <a:xfrm>
            <a:off x="5398920" y="566100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5" name="Šipka doprava 9"/>
          <p:cNvSpPr/>
          <p:nvPr/>
        </p:nvSpPr>
        <p:spPr>
          <a:xfrm>
            <a:off x="5364000" y="6237360"/>
            <a:ext cx="457200" cy="114120"/>
          </a:xfrm>
          <a:prstGeom prst="rightArrow">
            <a:avLst>
              <a:gd name="adj1" fmla="val 50000"/>
              <a:gd name="adj2" fmla="val 1001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900000" y="1006200"/>
            <a:ext cx="7848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aramond"/>
              </a:rPr>
              <a:t>změny a úpravy v oblasti kvalifikačního vzdělávání 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aramond"/>
              </a:rPr>
              <a:t>Navrhuje se odstranění duality (dvojkolejnosti) vzdělávání, kdy pro jedno a totéž zdravotnické povolání jsou dvě vzdělávací úrovně (na VŠ a VOŠZ), aniž by se od sebe podstatně odlišovala jejich obsahová náplň s vyústěním v odlišném profilu absolventa.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7" name="Šipka doprava 4"/>
          <p:cNvSpPr/>
          <p:nvPr/>
        </p:nvSpPr>
        <p:spPr>
          <a:xfrm>
            <a:off x="5419800" y="4005360"/>
            <a:ext cx="457200" cy="114120"/>
          </a:xfrm>
          <a:prstGeom prst="rightArrow">
            <a:avLst>
              <a:gd name="adj1" fmla="val 50000"/>
              <a:gd name="adj2" fmla="val 1001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187280" y="162864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332640" indent="-33264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a úpravy v oblasti kvalifikačního vzděláv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avrhuje se příprava na výkon povolán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a úrovni </a:t>
            </a: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VOŠZ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v oborech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ubní techni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Dentální hygienistk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Farmaceutický asisten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 </a:t>
            </a: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bakalářském programu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 oborech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Všeobecná sestr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dravotní labora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dravotnický záchranář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utriční terapeut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87280" y="1557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 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 názvosloví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borný pracovník v laboratorních metodách a přípravě léčivých přípravků 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Bioanalyti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adiologický asistent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Radiologický labora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Adiktolog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diktolog ve zdravotnictv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Farmaceutický asistent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Farmaceutický labora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Masér, nevidomý a slabozraký masér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Masér ve zdravotnictv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i jako maturitní obor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změny v názvosloví škol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apř. střední zdravotnická škola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střední odborná škola (má obecnější význam). Nebude se předem formulačně zužovat možnost pro další střední odborné školy, které by hodlaly otevřít zdravotnický obor. Toto se již v praxi  běžně uskutečňuje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.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 počtu zdravotnických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–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redukce, ukončení vzdělávání, nové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dezinfektor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aboratorní pracovní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dravotně – sociální pracovník 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(transformace oboru po dohodě s MPSV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biotechnický asiste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šetřovatel  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(transformace oboru ošetřovatel-pečovatel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asistent zubního technik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aboratorní asisten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utriční asiste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kategorie JOP (diskuze k arteterapeutovi a muzikoterapeutovi, herní specialista, nemocniční kaplan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embryolog ve zdravotnictví – klinický embryolog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2:46:12Z</dcterms:created>
  <dc:creator>Michal</dc:creator>
  <dc:description/>
  <dc:language>en-US</dc:language>
  <cp:lastModifiedBy>Šmídová Alena Mgr.</cp:lastModifiedBy>
  <cp:lastPrinted>2014-11-18T06:24:17Z</cp:lastPrinted>
  <dcterms:modified xsi:type="dcterms:W3CDTF">2014-11-18T06:31:59Z</dcterms:modified>
  <cp:revision>141</cp:revision>
  <dc:subject/>
  <dc:title>Novelizace zákona č. 96/2004 Sb.,   o  podmínkách získávání a uznávání způsobilosti k výkonu nelékařských zdravotnických povolání a k výkonu činností souvisejících s poskytováním zdravotní péče a o změně některých souvisejících zákonů (zákon o nelékařských zdravotnických povoláních)</dc:title>
</cp:coreProperties>
</file>